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D27-3385-4124-8D58-72A43735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509-75AD-4C04-80CE-0D1FB752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E42-5C1A-47A9-83B3-4DB930B0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F07-747E-413F-9CF6-40246EFE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3410-DCB7-4C24-BFEA-91ACEA44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834B-4A5A-43EA-BC2B-BC2C424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F9A1-4E95-40CA-96E1-A68FFB5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77D-F515-406D-8588-32D7BDC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A6CF-14C9-44A1-ABE3-91E86B7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B6D9-C8B0-49A1-B189-8C31B4E4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F1D9-21A8-45A9-AF57-7CD342A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439-8D58-4A2A-802A-40C3491F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D263-A29A-44C4-B0F3-FA42F99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9127-5618-4663-9120-843CD44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736E-CA9C-4D94-8680-660BE46A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01AA-CD2D-46CA-959B-87537CF7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15E5-D4F4-4956-8058-B83A7A21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5F4-8B22-4F49-80EF-6C02D37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1D4-B7C8-4B92-BFC0-4752D87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DAA-94C1-45DD-8E2F-1826F96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7D4-E6BD-4CBB-85F6-99F0786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85C-C414-43E5-BEA2-12904AA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CFE-039D-4E46-9E5B-ED320DC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A8B-2784-4B34-9686-53D071C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0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78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322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70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817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2065680"/>
              <a:ext cx="9143280" cy="1735200"/>
              <a:chOff x="0" y="2065680"/>
              <a:chExt cx="9143280" cy="1735200"/>
            </a:xfrm>
          </p:grpSpPr>
          <p:sp>
            <p:nvSpPr>
              <p:cNvPr id="10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31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2560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2809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057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38008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0" y="4296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4791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040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288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5535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032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79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7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6775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048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457200" y="5935680"/>
            <a:ext cx="2362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2971440" y="5935680"/>
            <a:ext cx="3429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878160" y="6392880"/>
            <a:ext cx="22654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C0B-8EA5-47E5-A806-8502D67F695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31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5781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323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569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81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2065680"/>
              <a:ext cx="9143280" cy="1734120"/>
              <a:chOff x="0" y="2065680"/>
              <a:chExt cx="9143280" cy="173412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231264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25614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280836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05712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7998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42962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791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87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3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03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2794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264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7755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048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38088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29718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D94D-EAE2-43FD-9EF3-A89F113B881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2666880" cy="17524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96969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ién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é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Cuándo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4" name="j0078711" descr=""/>
          <p:cNvPicPr/>
          <p:nvPr/>
        </p:nvPicPr>
        <p:blipFill>
          <a:blip r:embed="rId1"/>
          <a:stretch/>
        </p:blipFill>
        <p:spPr>
          <a:xfrm>
            <a:off x="5952960" y="2666880"/>
            <a:ext cx="159084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AC06-A198-43CC-AE74-0AA1498CFF08}" type="slidenum">
              <a:t>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2895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5618880" y="3124080"/>
            <a:ext cx="24912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t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bd07213_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006640" cy="2438640"/>
          </a:xfrm>
          <a:prstGeom prst="rect">
            <a:avLst/>
          </a:prstGeom>
          <a:ln w="0">
            <a:noFill/>
          </a:ln>
        </p:spPr>
      </p:pic>
      <p:pic>
        <p:nvPicPr>
          <p:cNvPr id="228" name="pe07266_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459-5F5C-4EE9-9EA2-81E936B59393}" type="slidenum">
              <a:t>10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283680"/>
            <a:ext cx="57909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una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48960" y="3352680"/>
            <a:ext cx="546588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      v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144792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re are several ways to ask a question in Spanish, besides using question-asking words. One way is to simply place the subject after the verb, and change the inflection of your voic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33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1849320" y="4735440"/>
            <a:ext cx="59230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90D-5AD8-4AFC-A894-FDC1AC48CFE1}" type="slidenum">
              <a:t>1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680" y="335232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mañan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1447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the written question marks and the rising tone of the speaker’s voice alone may indicate the difference between a statement and a ques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600200" y="283680"/>
            <a:ext cx="6019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0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914400" y="4152960"/>
            <a:ext cx="7391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Hay una fiesta en el colegio maña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234-5105-4A97-8FEE-9BF63EE64756}" type="slidenum">
              <a:t>12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166560"/>
            <a:ext cx="8153280" cy="10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ho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verdad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re is a party at school toda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4479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you can add a tag word such as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no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or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verdad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o the end of a sentence, much as you might add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right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don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’t you?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, etc.,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Pedro está enfermo,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no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dro is sick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isn’t h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8" name="an00106_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an00106_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347-0190-4638-8DF3-A1DE63C6D93A}" type="slidenum">
              <a:t>13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560" y="3352320"/>
            <a:ext cx="655308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Cuándo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l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concierto de rock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           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447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When forming information questions with any of the interrogative words (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¿cómo?, ¿cuál?, etc.), the verb </a:t>
            </a:r>
            <a:r>
              <a:rPr b="0" i="1" lang="es-ES" sz="2400" spc="-1" strike="noStrike" u="sng">
                <a:solidFill>
                  <a:srgbClr val="ff0033"/>
                </a:solidFill>
                <a:uFillTx/>
                <a:latin typeface="Comic Sans MS"/>
              </a:rPr>
              <a:t>precedes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he subject, just as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876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l concierto de rock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el lun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s                 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4" name="en00365_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DD3-B45B-494E-A59C-16C2BDBEA781}" type="slidenum">
              <a:t>1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320" y="5029200"/>
            <a:ext cx="6953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Comic Sans MS"/>
              </a:rPr>
              <a:t>A qué</a:t>
            </a: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ora es la fiesta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a fiesta es a las nueve de la noche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6002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 interrogative words may be used alone or in combination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with various preposi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914400" y="283680"/>
            <a:ext cx="72388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aún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276720"/>
            <a:ext cx="34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e dónd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es é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El es de Chi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A63-2761-4E01-9CEE-25E96DF6BDF7}" type="slidenum">
              <a:t>15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38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When answering questions, pay attention to the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 for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  The verb form in the answer will be based on the ques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680" y="198360"/>
            <a:ext cx="8829720" cy="1803600"/>
            <a:chOff x="85680" y="198360"/>
            <a:chExt cx="8829720" cy="1803600"/>
          </a:xfrm>
        </p:grpSpPr>
        <p:sp>
          <p:nvSpPr>
            <p:cNvPr id="261" name=""/>
            <p:cNvSpPr/>
            <p:nvPr/>
          </p:nvSpPr>
          <p:spPr>
            <a:xfrm>
              <a:off x="1676520" y="512640"/>
              <a:ext cx="72388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Preguntas y respuesta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62" name="bd07139_" descr=""/>
            <p:cNvPicPr/>
            <p:nvPr/>
          </p:nvPicPr>
          <p:blipFill>
            <a:blip r:embed="rId1"/>
            <a:stretch/>
          </p:blipFill>
          <p:spPr>
            <a:xfrm>
              <a:off x="85680" y="198360"/>
              <a:ext cx="1362240" cy="18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1523880" y="35053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If the question is asked of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you, 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the answer is in the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form.  If the question asks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then the answer is also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556272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sentence (answer) must have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and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E5D-6B03-4594-BAD5-C5EA5F2A46C7}" type="slidenum">
              <a:t>1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981080" y="457200"/>
            <a:ext cx="5410440" cy="5867280"/>
            <a:chOff x="1981080" y="457200"/>
            <a:chExt cx="5410440" cy="5867280"/>
          </a:xfrm>
        </p:grpSpPr>
        <p:sp>
          <p:nvSpPr>
            <p:cNvPr id="266" name=""/>
            <p:cNvSpPr/>
            <p:nvPr/>
          </p:nvSpPr>
          <p:spPr>
            <a:xfrm>
              <a:off x="4572000" y="457200"/>
              <a:ext cx="0" cy="58672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1080" y="1295280"/>
              <a:ext cx="541044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5160" y="66492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Answer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48920" y="664920"/>
              <a:ext cx="19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Question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8620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9160" y="1527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 / 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72800" y="2060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46320" y="206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59520" y="259380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56440" y="25970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560" y="31273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46320" y="3130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9040" y="40384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78200" y="404172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 / 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8840" y="4572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v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06320" y="45752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7680" y="51055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4960" y="5108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91360" y="570060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0360" y="57038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4C0-FA9E-4451-AB50-AFF64EAFC1E3}" type="slidenum">
              <a:t>17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24800" y="17226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udias mucho en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9840" y="22096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A qué hora tienes el almuerzo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560" y="27432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Hay mucha tarea en la clase de inglé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5720" y="320040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llos hablan mucho en clas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4440" y="36576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Necesitamos los libros para la clase de español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7240" y="41148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amino a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192240"/>
            <a:ext cx="8382240" cy="6397560"/>
            <a:chOff x="380880" y="192240"/>
            <a:chExt cx="8382240" cy="6397560"/>
          </a:xfrm>
        </p:grpSpPr>
        <p:sp>
          <p:nvSpPr>
            <p:cNvPr id="293" name=""/>
            <p:cNvSpPr/>
            <p:nvPr/>
          </p:nvSpPr>
          <p:spPr>
            <a:xfrm>
              <a:off x="380880" y="228600"/>
              <a:ext cx="5334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Y la respuesta e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94" name="ed00084_" descr=""/>
            <p:cNvPicPr/>
            <p:nvPr/>
          </p:nvPicPr>
          <p:blipFill>
            <a:blip r:embed="rId1"/>
            <a:stretch/>
          </p:blipFill>
          <p:spPr>
            <a:xfrm>
              <a:off x="5943600" y="192240"/>
              <a:ext cx="2819520" cy="15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ed00084_" descr=""/>
            <p:cNvPicPr/>
            <p:nvPr/>
          </p:nvPicPr>
          <p:blipFill>
            <a:blip r:embed="rId2"/>
            <a:stretch/>
          </p:blipFill>
          <p:spPr>
            <a:xfrm>
              <a:off x="457200" y="5029200"/>
              <a:ext cx="281952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4779720" y="46483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Vosotros bailáis much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25440" y="51055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. busca un cuadern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8840" y="556272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s. llevan los libros a la clas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4160" y="6019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ás en la clase de histor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837-57BB-480D-9B3F-9557F8D67BF4}" type="slidenum">
              <a:t>18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71800" y="2285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erminamos…</a:t>
            </a:r>
            <a:endParaRPr b="0" lang="en-US" sz="6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2" name="j0078739" descr=""/>
          <p:cNvPicPr/>
          <p:nvPr/>
        </p:nvPicPr>
        <p:blipFill>
          <a:blip r:embed="rId2"/>
          <a:stretch/>
        </p:blipFill>
        <p:spPr>
          <a:xfrm>
            <a:off x="625320" y="457200"/>
            <a:ext cx="28036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4C3-A79F-4983-8229-93A879ACF50E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Cómo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stás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De 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res?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 from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es ella?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h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523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We are already familiar with several words used for asking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information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ques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e02745_" descr=""/>
          <p:cNvPicPr/>
          <p:nvPr/>
        </p:nvPicPr>
        <p:blipFill>
          <a:blip r:embed="rId1"/>
          <a:stretch/>
        </p:blipFill>
        <p:spPr>
          <a:xfrm>
            <a:off x="3427560" y="5638680"/>
            <a:ext cx="2287440" cy="10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113-49E3-4435-B4E2-0F0F48D991D1}" type="slidenum">
              <a:t>2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436680"/>
            <a:ext cx="58672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Tod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las </a:t>
            </a:r>
            <a:r>
              <a:rPr b="0" i="1" lang="en-US" sz="4400" spc="-1" strike="noStrike">
                <a:solidFill>
                  <a:srgbClr val="003366"/>
                </a:solidFill>
                <a:latin typeface="Comic Sans MS"/>
              </a:rPr>
              <a:t>palabras interrogativ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2" name="BD00028_" descr=""/>
          <p:cNvPicPr/>
          <p:nvPr/>
        </p:nvPicPr>
        <p:blipFill>
          <a:blip r:embed="rId1"/>
          <a:stretch/>
        </p:blipFill>
        <p:spPr>
          <a:xfrm>
            <a:off x="4876920" y="2365200"/>
            <a:ext cx="3886200" cy="38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8B1-F8B0-4A70-981D-7E8C30528D5B}" type="slidenum">
              <a:t>3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o, ¿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qué significa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0840" y="392040"/>
            <a:ext cx="8764560" cy="1284120"/>
            <a:chOff x="150840" y="392040"/>
            <a:chExt cx="8764560" cy="1284120"/>
          </a:xfrm>
        </p:grpSpPr>
        <p:pic>
          <p:nvPicPr>
            <p:cNvPr id="156" name="j0078811" descr=""/>
            <p:cNvPicPr/>
            <p:nvPr/>
          </p:nvPicPr>
          <p:blipFill>
            <a:blip r:embed="rId1"/>
            <a:stretch/>
          </p:blipFill>
          <p:spPr>
            <a:xfrm>
              <a:off x="150840" y="393840"/>
              <a:ext cx="1371600" cy="12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7543080" y="392040"/>
              <a:ext cx="1372320" cy="1284120"/>
              <a:chOff x="7543080" y="392040"/>
              <a:chExt cx="1372320" cy="12841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543080" y="980640"/>
                <a:ext cx="726480" cy="589320"/>
                <a:chOff x="7543080" y="980640"/>
                <a:chExt cx="726480" cy="58932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7651080" y="1270440"/>
                  <a:ext cx="477000" cy="294120"/>
                </a:xfrm>
                <a:custGeom>
                  <a:avLst/>
                  <a:gdLst/>
                  <a:ahLst/>
                  <a:rect l="l" t="t" r="r" b="b"/>
                  <a:pathLst>
                    <a:path w="1000" h="619">
                      <a:moveTo>
                        <a:pt x="0" y="137"/>
                      </a:moveTo>
                      <a:lnTo>
                        <a:pt x="2" y="383"/>
                      </a:lnTo>
                      <a:lnTo>
                        <a:pt x="114" y="472"/>
                      </a:lnTo>
                      <a:lnTo>
                        <a:pt x="226" y="530"/>
                      </a:lnTo>
                      <a:lnTo>
                        <a:pt x="402" y="619"/>
                      </a:lnTo>
                      <a:lnTo>
                        <a:pt x="609" y="483"/>
                      </a:lnTo>
                      <a:lnTo>
                        <a:pt x="832" y="312"/>
                      </a:lnTo>
                      <a:lnTo>
                        <a:pt x="991" y="194"/>
                      </a:lnTo>
                      <a:lnTo>
                        <a:pt x="1000" y="0"/>
                      </a:lnTo>
                      <a:lnTo>
                        <a:pt x="886" y="72"/>
                      </a:lnTo>
                      <a:lnTo>
                        <a:pt x="774" y="150"/>
                      </a:lnTo>
                      <a:lnTo>
                        <a:pt x="646" y="247"/>
                      </a:lnTo>
                      <a:lnTo>
                        <a:pt x="407" y="118"/>
                      </a:lnTo>
                      <a:lnTo>
                        <a:pt x="313" y="161"/>
                      </a:lnTo>
                      <a:lnTo>
                        <a:pt x="152" y="223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ac8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7550640" y="989280"/>
                  <a:ext cx="709560" cy="397800"/>
                  <a:chOff x="7550640" y="989280"/>
                  <a:chExt cx="709560" cy="3978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>
                    <a:off x="7929000" y="1181880"/>
                    <a:ext cx="331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415">
                        <a:moveTo>
                          <a:pt x="267" y="0"/>
                        </a:moveTo>
                        <a:lnTo>
                          <a:pt x="0" y="170"/>
                        </a:lnTo>
                        <a:lnTo>
                          <a:pt x="162" y="251"/>
                        </a:lnTo>
                        <a:lnTo>
                          <a:pt x="297" y="316"/>
                        </a:lnTo>
                        <a:lnTo>
                          <a:pt x="436" y="415"/>
                        </a:lnTo>
                        <a:lnTo>
                          <a:pt x="698" y="291"/>
                        </a:lnTo>
                        <a:lnTo>
                          <a:pt x="525" y="194"/>
                        </a:lnTo>
                        <a:lnTo>
                          <a:pt x="385" y="97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50280" y="1147320"/>
                    <a:ext cx="3754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504">
                        <a:moveTo>
                          <a:pt x="0" y="368"/>
                        </a:moveTo>
                        <a:lnTo>
                          <a:pt x="216" y="232"/>
                        </a:lnTo>
                        <a:lnTo>
                          <a:pt x="371" y="149"/>
                        </a:lnTo>
                        <a:lnTo>
                          <a:pt x="484" y="62"/>
                        </a:lnTo>
                        <a:lnTo>
                          <a:pt x="563" y="0"/>
                        </a:lnTo>
                        <a:lnTo>
                          <a:pt x="729" y="64"/>
                        </a:lnTo>
                        <a:lnTo>
                          <a:pt x="788" y="93"/>
                        </a:lnTo>
                        <a:lnTo>
                          <a:pt x="705" y="176"/>
                        </a:lnTo>
                        <a:lnTo>
                          <a:pt x="553" y="269"/>
                        </a:lnTo>
                        <a:lnTo>
                          <a:pt x="411" y="357"/>
                        </a:lnTo>
                        <a:lnTo>
                          <a:pt x="288" y="453"/>
                        </a:lnTo>
                        <a:lnTo>
                          <a:pt x="216" y="504"/>
                        </a:lnTo>
                        <a:lnTo>
                          <a:pt x="16" y="399"/>
                        </a:lnTo>
                        <a:lnTo>
                          <a:pt x="0" y="368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817760" y="1040400"/>
                    <a:ext cx="3880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295">
                        <a:moveTo>
                          <a:pt x="160" y="295"/>
                        </a:moveTo>
                        <a:lnTo>
                          <a:pt x="390" y="181"/>
                        </a:lnTo>
                        <a:lnTo>
                          <a:pt x="600" y="88"/>
                        </a:lnTo>
                        <a:lnTo>
                          <a:pt x="817" y="9"/>
                        </a:lnTo>
                        <a:lnTo>
                          <a:pt x="593" y="0"/>
                        </a:lnTo>
                        <a:lnTo>
                          <a:pt x="480" y="46"/>
                        </a:lnTo>
                        <a:lnTo>
                          <a:pt x="272" y="112"/>
                        </a:lnTo>
                        <a:lnTo>
                          <a:pt x="150" y="162"/>
                        </a:lnTo>
                        <a:lnTo>
                          <a:pt x="0" y="252"/>
                        </a:lnTo>
                        <a:lnTo>
                          <a:pt x="160" y="295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>
                    <a:off x="7585200" y="989280"/>
                    <a:ext cx="23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346">
                        <a:moveTo>
                          <a:pt x="0" y="130"/>
                        </a:moveTo>
                        <a:lnTo>
                          <a:pt x="194" y="251"/>
                        </a:lnTo>
                        <a:lnTo>
                          <a:pt x="331" y="346"/>
                        </a:lnTo>
                        <a:lnTo>
                          <a:pt x="487" y="240"/>
                        </a:lnTo>
                        <a:lnTo>
                          <a:pt x="228" y="95"/>
                        </a:lnTo>
                        <a:lnTo>
                          <a:pt x="80" y="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7654320" y="1047240"/>
                    <a:ext cx="48420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8" h="581">
                        <a:moveTo>
                          <a:pt x="29" y="283"/>
                        </a:moveTo>
                        <a:lnTo>
                          <a:pt x="143" y="396"/>
                        </a:lnTo>
                        <a:lnTo>
                          <a:pt x="300" y="498"/>
                        </a:lnTo>
                        <a:lnTo>
                          <a:pt x="444" y="581"/>
                        </a:lnTo>
                        <a:lnTo>
                          <a:pt x="614" y="485"/>
                        </a:lnTo>
                        <a:lnTo>
                          <a:pt x="710" y="420"/>
                        </a:lnTo>
                        <a:lnTo>
                          <a:pt x="843" y="353"/>
                        </a:lnTo>
                        <a:lnTo>
                          <a:pt x="1018" y="203"/>
                        </a:lnTo>
                        <a:lnTo>
                          <a:pt x="747" y="51"/>
                        </a:lnTo>
                        <a:lnTo>
                          <a:pt x="660" y="0"/>
                        </a:lnTo>
                        <a:lnTo>
                          <a:pt x="375" y="107"/>
                        </a:lnTo>
                        <a:lnTo>
                          <a:pt x="168" y="195"/>
                        </a:lnTo>
                        <a:lnTo>
                          <a:pt x="0" y="280"/>
                        </a:lnTo>
                        <a:lnTo>
                          <a:pt x="29" y="283"/>
                        </a:lnTo>
                        <a:close/>
                      </a:path>
                    </a:pathLst>
                  </a:custGeom>
                  <a:solidFill>
                    <a:srgbClr val="ac8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 flipH="1">
                  <a:off x="7577280" y="980640"/>
                  <a:ext cx="242280" cy="177120"/>
                </a:xfrm>
                <a:custGeom>
                  <a:avLst/>
                  <a:gdLst/>
                  <a:ahLst/>
                  <a:rect l="l" t="t" r="r" b="b"/>
                  <a:pathLst>
                    <a:path w="508" h="370">
                      <a:moveTo>
                        <a:pt x="26" y="129"/>
                      </a:moveTo>
                      <a:lnTo>
                        <a:pt x="97" y="40"/>
                      </a:lnTo>
                      <a:lnTo>
                        <a:pt x="350" y="186"/>
                      </a:lnTo>
                      <a:lnTo>
                        <a:pt x="461" y="255"/>
                      </a:lnTo>
                      <a:lnTo>
                        <a:pt x="317" y="346"/>
                      </a:lnTo>
                      <a:lnTo>
                        <a:pt x="325" y="368"/>
                      </a:lnTo>
                      <a:lnTo>
                        <a:pt x="339" y="370"/>
                      </a:lnTo>
                      <a:lnTo>
                        <a:pt x="508" y="257"/>
                      </a:lnTo>
                      <a:lnTo>
                        <a:pt x="486" y="226"/>
                      </a:lnTo>
                      <a:lnTo>
                        <a:pt x="297" y="129"/>
                      </a:lnTo>
                      <a:lnTo>
                        <a:pt x="88" y="0"/>
                      </a:lnTo>
                      <a:lnTo>
                        <a:pt x="64" y="24"/>
                      </a:lnTo>
                      <a:lnTo>
                        <a:pt x="0" y="135"/>
                      </a:lnTo>
                      <a:lnTo>
                        <a:pt x="2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7817400" y="1036080"/>
                  <a:ext cx="399600" cy="148320"/>
                </a:xfrm>
                <a:custGeom>
                  <a:avLst/>
                  <a:gdLst/>
                  <a:ahLst/>
                  <a:rect l="l" t="t" r="r" b="b"/>
                  <a:pathLst>
                    <a:path w="842" h="312">
                      <a:moveTo>
                        <a:pt x="842" y="16"/>
                      </a:moveTo>
                      <a:lnTo>
                        <a:pt x="634" y="0"/>
                      </a:lnTo>
                      <a:lnTo>
                        <a:pt x="362" y="89"/>
                      </a:lnTo>
                      <a:lnTo>
                        <a:pt x="183" y="155"/>
                      </a:lnTo>
                      <a:lnTo>
                        <a:pt x="47" y="230"/>
                      </a:lnTo>
                      <a:lnTo>
                        <a:pt x="0" y="263"/>
                      </a:lnTo>
                      <a:lnTo>
                        <a:pt x="10" y="271"/>
                      </a:lnTo>
                      <a:lnTo>
                        <a:pt x="167" y="312"/>
                      </a:lnTo>
                      <a:lnTo>
                        <a:pt x="183" y="292"/>
                      </a:lnTo>
                      <a:lnTo>
                        <a:pt x="51" y="254"/>
                      </a:lnTo>
                      <a:lnTo>
                        <a:pt x="143" y="198"/>
                      </a:lnTo>
                      <a:lnTo>
                        <a:pt x="234" y="157"/>
                      </a:lnTo>
                      <a:lnTo>
                        <a:pt x="386" y="106"/>
                      </a:lnTo>
                      <a:lnTo>
                        <a:pt x="560" y="51"/>
                      </a:lnTo>
                      <a:lnTo>
                        <a:pt x="631" y="20"/>
                      </a:lnTo>
                      <a:lnTo>
                        <a:pt x="806" y="27"/>
                      </a:lnTo>
                      <a:lnTo>
                        <a:pt x="8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7928280" y="1177560"/>
                  <a:ext cx="340920" cy="205560"/>
                </a:xfrm>
                <a:custGeom>
                  <a:avLst/>
                  <a:gdLst/>
                  <a:ahLst/>
                  <a:rect l="l" t="t" r="r" b="b"/>
                  <a:pathLst>
                    <a:path w="719" h="434">
                      <a:moveTo>
                        <a:pt x="278" y="0"/>
                      </a:moveTo>
                      <a:lnTo>
                        <a:pt x="134" y="102"/>
                      </a:lnTo>
                      <a:lnTo>
                        <a:pt x="0" y="169"/>
                      </a:lnTo>
                      <a:lnTo>
                        <a:pt x="24" y="198"/>
                      </a:lnTo>
                      <a:lnTo>
                        <a:pt x="289" y="318"/>
                      </a:lnTo>
                      <a:lnTo>
                        <a:pt x="439" y="431"/>
                      </a:lnTo>
                      <a:lnTo>
                        <a:pt x="463" y="434"/>
                      </a:lnTo>
                      <a:lnTo>
                        <a:pt x="719" y="321"/>
                      </a:lnTo>
                      <a:lnTo>
                        <a:pt x="706" y="294"/>
                      </a:lnTo>
                      <a:lnTo>
                        <a:pt x="463" y="407"/>
                      </a:lnTo>
                      <a:lnTo>
                        <a:pt x="414" y="378"/>
                      </a:lnTo>
                      <a:lnTo>
                        <a:pt x="305" y="302"/>
                      </a:lnTo>
                      <a:lnTo>
                        <a:pt x="238" y="271"/>
                      </a:lnTo>
                      <a:lnTo>
                        <a:pt x="149" y="225"/>
                      </a:lnTo>
                      <a:lnTo>
                        <a:pt x="40" y="176"/>
                      </a:lnTo>
                      <a:lnTo>
                        <a:pt x="289" y="4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42720" y="1147680"/>
                  <a:ext cx="397080" cy="249840"/>
                </a:xfrm>
                <a:custGeom>
                  <a:avLst/>
                  <a:gdLst/>
                  <a:ahLst/>
                  <a:rect l="l" t="t" r="r" b="b"/>
                  <a:pathLst>
                    <a:path w="834" h="526">
                      <a:moveTo>
                        <a:pt x="42" y="376"/>
                      </a:moveTo>
                      <a:lnTo>
                        <a:pt x="256" y="472"/>
                      </a:lnTo>
                      <a:lnTo>
                        <a:pt x="392" y="376"/>
                      </a:lnTo>
                      <a:lnTo>
                        <a:pt x="506" y="296"/>
                      </a:lnTo>
                      <a:lnTo>
                        <a:pt x="634" y="221"/>
                      </a:lnTo>
                      <a:lnTo>
                        <a:pt x="747" y="144"/>
                      </a:lnTo>
                      <a:lnTo>
                        <a:pt x="792" y="88"/>
                      </a:lnTo>
                      <a:lnTo>
                        <a:pt x="658" y="44"/>
                      </a:lnTo>
                      <a:lnTo>
                        <a:pt x="568" y="21"/>
                      </a:lnTo>
                      <a:lnTo>
                        <a:pt x="584" y="0"/>
                      </a:lnTo>
                      <a:lnTo>
                        <a:pt x="680" y="24"/>
                      </a:lnTo>
                      <a:lnTo>
                        <a:pt x="770" y="55"/>
                      </a:lnTo>
                      <a:lnTo>
                        <a:pt x="834" y="88"/>
                      </a:lnTo>
                      <a:lnTo>
                        <a:pt x="779" y="151"/>
                      </a:lnTo>
                      <a:lnTo>
                        <a:pt x="723" y="198"/>
                      </a:lnTo>
                      <a:lnTo>
                        <a:pt x="642" y="245"/>
                      </a:lnTo>
                      <a:lnTo>
                        <a:pt x="568" y="288"/>
                      </a:lnTo>
                      <a:lnTo>
                        <a:pt x="480" y="345"/>
                      </a:lnTo>
                      <a:lnTo>
                        <a:pt x="408" y="397"/>
                      </a:lnTo>
                      <a:lnTo>
                        <a:pt x="339" y="448"/>
                      </a:lnTo>
                      <a:lnTo>
                        <a:pt x="247" y="526"/>
                      </a:lnTo>
                      <a:lnTo>
                        <a:pt x="0" y="381"/>
                      </a:lnTo>
                      <a:lnTo>
                        <a:pt x="42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651080" y="1037880"/>
                  <a:ext cx="489960" cy="293760"/>
                </a:xfrm>
                <a:custGeom>
                  <a:avLst/>
                  <a:gdLst/>
                  <a:ahLst/>
                  <a:rect l="l" t="t" r="r" b="b"/>
                  <a:pathLst>
                    <a:path w="1029" h="619">
                      <a:moveTo>
                        <a:pt x="31" y="297"/>
                      </a:moveTo>
                      <a:lnTo>
                        <a:pt x="165" y="402"/>
                      </a:lnTo>
                      <a:lnTo>
                        <a:pt x="316" y="506"/>
                      </a:lnTo>
                      <a:lnTo>
                        <a:pt x="447" y="584"/>
                      </a:lnTo>
                      <a:lnTo>
                        <a:pt x="572" y="520"/>
                      </a:lnTo>
                      <a:lnTo>
                        <a:pt x="670" y="448"/>
                      </a:lnTo>
                      <a:lnTo>
                        <a:pt x="821" y="370"/>
                      </a:lnTo>
                      <a:lnTo>
                        <a:pt x="995" y="241"/>
                      </a:lnTo>
                      <a:lnTo>
                        <a:pt x="787" y="102"/>
                      </a:lnTo>
                      <a:lnTo>
                        <a:pt x="662" y="24"/>
                      </a:lnTo>
                      <a:lnTo>
                        <a:pt x="683" y="0"/>
                      </a:lnTo>
                      <a:lnTo>
                        <a:pt x="739" y="46"/>
                      </a:lnTo>
                      <a:lnTo>
                        <a:pt x="861" y="120"/>
                      </a:lnTo>
                      <a:lnTo>
                        <a:pt x="1029" y="241"/>
                      </a:lnTo>
                      <a:lnTo>
                        <a:pt x="901" y="344"/>
                      </a:lnTo>
                      <a:lnTo>
                        <a:pt x="758" y="431"/>
                      </a:lnTo>
                      <a:lnTo>
                        <a:pt x="651" y="491"/>
                      </a:lnTo>
                      <a:lnTo>
                        <a:pt x="444" y="619"/>
                      </a:lnTo>
                      <a:lnTo>
                        <a:pt x="286" y="523"/>
                      </a:lnTo>
                      <a:lnTo>
                        <a:pt x="119" y="402"/>
                      </a:lnTo>
                      <a:lnTo>
                        <a:pt x="0" y="322"/>
                      </a:lnTo>
                      <a:lnTo>
                        <a:pt x="0" y="289"/>
                      </a:lnTo>
                      <a:lnTo>
                        <a:pt x="31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807320" y="1040400"/>
                  <a:ext cx="334080" cy="145440"/>
                </a:xfrm>
                <a:custGeom>
                  <a:avLst/>
                  <a:gdLst/>
                  <a:ahLst/>
                  <a:rect l="l" t="t" r="r" b="b"/>
                  <a:pathLst>
                    <a:path w="703" h="306">
                      <a:moveTo>
                        <a:pt x="0" y="291"/>
                      </a:moveTo>
                      <a:lnTo>
                        <a:pt x="199" y="187"/>
                      </a:lnTo>
                      <a:lnTo>
                        <a:pt x="389" y="106"/>
                      </a:lnTo>
                      <a:lnTo>
                        <a:pt x="560" y="40"/>
                      </a:lnTo>
                      <a:lnTo>
                        <a:pt x="688" y="0"/>
                      </a:lnTo>
                      <a:lnTo>
                        <a:pt x="703" y="22"/>
                      </a:lnTo>
                      <a:lnTo>
                        <a:pt x="605" y="49"/>
                      </a:lnTo>
                      <a:lnTo>
                        <a:pt x="480" y="97"/>
                      </a:lnTo>
                      <a:lnTo>
                        <a:pt x="352" y="146"/>
                      </a:lnTo>
                      <a:lnTo>
                        <a:pt x="221" y="201"/>
                      </a:lnTo>
                      <a:lnTo>
                        <a:pt x="16" y="306"/>
                      </a:lnTo>
                      <a:lnTo>
                        <a:pt x="0" y="2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7647480" y="1266120"/>
                  <a:ext cx="485280" cy="303840"/>
                </a:xfrm>
                <a:custGeom>
                  <a:avLst/>
                  <a:gdLst/>
                  <a:ahLst/>
                  <a:rect l="l" t="t" r="r" b="b"/>
                  <a:pathLst>
                    <a:path w="1020" h="639">
                      <a:moveTo>
                        <a:pt x="0" y="130"/>
                      </a:moveTo>
                      <a:lnTo>
                        <a:pt x="0" y="391"/>
                      </a:lnTo>
                      <a:lnTo>
                        <a:pt x="96" y="466"/>
                      </a:lnTo>
                      <a:lnTo>
                        <a:pt x="232" y="545"/>
                      </a:lnTo>
                      <a:lnTo>
                        <a:pt x="411" y="639"/>
                      </a:lnTo>
                      <a:lnTo>
                        <a:pt x="649" y="480"/>
                      </a:lnTo>
                      <a:lnTo>
                        <a:pt x="841" y="328"/>
                      </a:lnTo>
                      <a:lnTo>
                        <a:pt x="1009" y="208"/>
                      </a:lnTo>
                      <a:lnTo>
                        <a:pt x="1020" y="0"/>
                      </a:lnTo>
                      <a:lnTo>
                        <a:pt x="988" y="26"/>
                      </a:lnTo>
                      <a:lnTo>
                        <a:pt x="984" y="194"/>
                      </a:lnTo>
                      <a:lnTo>
                        <a:pt x="683" y="423"/>
                      </a:lnTo>
                      <a:lnTo>
                        <a:pt x="489" y="559"/>
                      </a:lnTo>
                      <a:lnTo>
                        <a:pt x="427" y="592"/>
                      </a:lnTo>
                      <a:lnTo>
                        <a:pt x="435" y="130"/>
                      </a:lnTo>
                      <a:lnTo>
                        <a:pt x="404" y="122"/>
                      </a:lnTo>
                      <a:lnTo>
                        <a:pt x="395" y="138"/>
                      </a:lnTo>
                      <a:lnTo>
                        <a:pt x="408" y="288"/>
                      </a:lnTo>
                      <a:lnTo>
                        <a:pt x="408" y="511"/>
                      </a:lnTo>
                      <a:lnTo>
                        <a:pt x="393" y="594"/>
                      </a:lnTo>
                      <a:lnTo>
                        <a:pt x="250" y="536"/>
                      </a:lnTo>
                      <a:lnTo>
                        <a:pt x="161" y="480"/>
                      </a:lnTo>
                      <a:lnTo>
                        <a:pt x="56" y="407"/>
                      </a:lnTo>
                      <a:lnTo>
                        <a:pt x="27" y="367"/>
                      </a:lnTo>
                      <a:lnTo>
                        <a:pt x="24" y="143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7761240" y="1104840"/>
                  <a:ext cx="263880" cy="119520"/>
                </a:xfrm>
                <a:custGeom>
                  <a:avLst/>
                  <a:gdLst/>
                  <a:ahLst/>
                  <a:rect l="l" t="t" r="r" b="b"/>
                  <a:pathLst>
                    <a:path w="555" h="252">
                      <a:moveTo>
                        <a:pt x="14" y="205"/>
                      </a:moveTo>
                      <a:lnTo>
                        <a:pt x="24" y="148"/>
                      </a:lnTo>
                      <a:lnTo>
                        <a:pt x="52" y="99"/>
                      </a:lnTo>
                      <a:lnTo>
                        <a:pt x="98" y="72"/>
                      </a:lnTo>
                      <a:lnTo>
                        <a:pt x="155" y="72"/>
                      </a:lnTo>
                      <a:lnTo>
                        <a:pt x="210" y="87"/>
                      </a:lnTo>
                      <a:lnTo>
                        <a:pt x="251" y="108"/>
                      </a:lnTo>
                      <a:lnTo>
                        <a:pt x="296" y="92"/>
                      </a:lnTo>
                      <a:lnTo>
                        <a:pt x="325" y="47"/>
                      </a:lnTo>
                      <a:lnTo>
                        <a:pt x="366" y="14"/>
                      </a:lnTo>
                      <a:lnTo>
                        <a:pt x="429" y="0"/>
                      </a:lnTo>
                      <a:lnTo>
                        <a:pt x="491" y="4"/>
                      </a:lnTo>
                      <a:lnTo>
                        <a:pt x="548" y="47"/>
                      </a:lnTo>
                      <a:lnTo>
                        <a:pt x="555" y="92"/>
                      </a:lnTo>
                      <a:lnTo>
                        <a:pt x="536" y="167"/>
                      </a:lnTo>
                      <a:lnTo>
                        <a:pt x="476" y="193"/>
                      </a:lnTo>
                      <a:lnTo>
                        <a:pt x="462" y="167"/>
                      </a:lnTo>
                      <a:lnTo>
                        <a:pt x="498" y="153"/>
                      </a:lnTo>
                      <a:lnTo>
                        <a:pt x="521" y="110"/>
                      </a:lnTo>
                      <a:lnTo>
                        <a:pt x="513" y="65"/>
                      </a:lnTo>
                      <a:lnTo>
                        <a:pt x="483" y="35"/>
                      </a:lnTo>
                      <a:lnTo>
                        <a:pt x="421" y="28"/>
                      </a:lnTo>
                      <a:lnTo>
                        <a:pt x="378" y="49"/>
                      </a:lnTo>
                      <a:lnTo>
                        <a:pt x="340" y="94"/>
                      </a:lnTo>
                      <a:lnTo>
                        <a:pt x="318" y="122"/>
                      </a:lnTo>
                      <a:lnTo>
                        <a:pt x="291" y="139"/>
                      </a:lnTo>
                      <a:lnTo>
                        <a:pt x="237" y="144"/>
                      </a:lnTo>
                      <a:lnTo>
                        <a:pt x="192" y="130"/>
                      </a:lnTo>
                      <a:lnTo>
                        <a:pt x="150" y="110"/>
                      </a:lnTo>
                      <a:lnTo>
                        <a:pt x="103" y="110"/>
                      </a:lnTo>
                      <a:lnTo>
                        <a:pt x="67" y="137"/>
                      </a:lnTo>
                      <a:lnTo>
                        <a:pt x="47" y="182"/>
                      </a:lnTo>
                      <a:lnTo>
                        <a:pt x="59" y="222"/>
                      </a:lnTo>
                      <a:lnTo>
                        <a:pt x="103" y="252"/>
                      </a:lnTo>
                      <a:lnTo>
                        <a:pt x="0" y="227"/>
                      </a:lnTo>
                      <a:lnTo>
                        <a:pt x="14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8229960" y="1308960"/>
                <a:ext cx="286920" cy="234360"/>
                <a:chOff x="8229960" y="1308960"/>
                <a:chExt cx="286920" cy="23436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8229960" y="1308960"/>
                  <a:ext cx="286920" cy="234360"/>
                  <a:chOff x="8229960" y="1308960"/>
                  <a:chExt cx="286920" cy="2343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>
                    <a:off x="8235720" y="1313280"/>
                    <a:ext cx="27396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481">
                        <a:moveTo>
                          <a:pt x="155" y="74"/>
                        </a:moveTo>
                        <a:lnTo>
                          <a:pt x="218" y="66"/>
                        </a:lnTo>
                        <a:lnTo>
                          <a:pt x="244" y="7"/>
                        </a:lnTo>
                        <a:lnTo>
                          <a:pt x="317" y="0"/>
                        </a:lnTo>
                        <a:lnTo>
                          <a:pt x="317" y="93"/>
                        </a:lnTo>
                        <a:lnTo>
                          <a:pt x="359" y="103"/>
                        </a:lnTo>
                        <a:lnTo>
                          <a:pt x="441" y="52"/>
                        </a:lnTo>
                        <a:lnTo>
                          <a:pt x="514" y="108"/>
                        </a:lnTo>
                        <a:lnTo>
                          <a:pt x="425" y="175"/>
                        </a:lnTo>
                        <a:lnTo>
                          <a:pt x="443" y="199"/>
                        </a:lnTo>
                        <a:lnTo>
                          <a:pt x="551" y="175"/>
                        </a:lnTo>
                        <a:lnTo>
                          <a:pt x="576" y="271"/>
                        </a:lnTo>
                        <a:lnTo>
                          <a:pt x="448" y="289"/>
                        </a:lnTo>
                        <a:lnTo>
                          <a:pt x="441" y="323"/>
                        </a:lnTo>
                        <a:lnTo>
                          <a:pt x="502" y="368"/>
                        </a:lnTo>
                        <a:lnTo>
                          <a:pt x="425" y="444"/>
                        </a:lnTo>
                        <a:lnTo>
                          <a:pt x="381" y="390"/>
                        </a:lnTo>
                        <a:lnTo>
                          <a:pt x="359" y="397"/>
                        </a:lnTo>
                        <a:lnTo>
                          <a:pt x="359" y="474"/>
                        </a:lnTo>
                        <a:lnTo>
                          <a:pt x="266" y="481"/>
                        </a:lnTo>
                        <a:lnTo>
                          <a:pt x="271" y="399"/>
                        </a:lnTo>
                        <a:lnTo>
                          <a:pt x="199" y="399"/>
                        </a:lnTo>
                        <a:lnTo>
                          <a:pt x="175" y="457"/>
                        </a:lnTo>
                        <a:lnTo>
                          <a:pt x="79" y="407"/>
                        </a:lnTo>
                        <a:lnTo>
                          <a:pt x="122" y="359"/>
                        </a:lnTo>
                        <a:lnTo>
                          <a:pt x="86" y="308"/>
                        </a:lnTo>
                        <a:lnTo>
                          <a:pt x="19" y="318"/>
                        </a:lnTo>
                        <a:lnTo>
                          <a:pt x="0" y="234"/>
                        </a:lnTo>
                        <a:lnTo>
                          <a:pt x="81" y="212"/>
                        </a:lnTo>
                        <a:lnTo>
                          <a:pt x="88" y="141"/>
                        </a:lnTo>
                        <a:lnTo>
                          <a:pt x="41" y="110"/>
                        </a:lnTo>
                        <a:lnTo>
                          <a:pt x="108" y="26"/>
                        </a:lnTo>
                        <a:lnTo>
                          <a:pt x="155" y="74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8229960" y="1308960"/>
                    <a:ext cx="286920" cy="234360"/>
                    <a:chOff x="8229960" y="1308960"/>
                    <a:chExt cx="286920" cy="23436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>
                      <a:off x="8229600" y="1308960"/>
                      <a:ext cx="28692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3" h="492">
                          <a:moveTo>
                            <a:pt x="165" y="97"/>
                          </a:moveTo>
                          <a:lnTo>
                            <a:pt x="246" y="89"/>
                          </a:lnTo>
                          <a:lnTo>
                            <a:pt x="267" y="28"/>
                          </a:lnTo>
                          <a:lnTo>
                            <a:pt x="321" y="24"/>
                          </a:lnTo>
                          <a:lnTo>
                            <a:pt x="319" y="109"/>
                          </a:lnTo>
                          <a:lnTo>
                            <a:pt x="374" y="125"/>
                          </a:lnTo>
                          <a:lnTo>
                            <a:pt x="457" y="82"/>
                          </a:lnTo>
                          <a:lnTo>
                            <a:pt x="504" y="115"/>
                          </a:lnTo>
                          <a:lnTo>
                            <a:pt x="431" y="180"/>
                          </a:lnTo>
                          <a:lnTo>
                            <a:pt x="445" y="219"/>
                          </a:lnTo>
                          <a:lnTo>
                            <a:pt x="555" y="200"/>
                          </a:lnTo>
                          <a:lnTo>
                            <a:pt x="576" y="265"/>
                          </a:lnTo>
                          <a:lnTo>
                            <a:pt x="449" y="289"/>
                          </a:lnTo>
                          <a:lnTo>
                            <a:pt x="439" y="334"/>
                          </a:lnTo>
                          <a:lnTo>
                            <a:pt x="500" y="374"/>
                          </a:lnTo>
                          <a:lnTo>
                            <a:pt x="439" y="429"/>
                          </a:lnTo>
                          <a:lnTo>
                            <a:pt x="394" y="371"/>
                          </a:lnTo>
                          <a:lnTo>
                            <a:pt x="358" y="389"/>
                          </a:lnTo>
                          <a:lnTo>
                            <a:pt x="364" y="471"/>
                          </a:lnTo>
                          <a:lnTo>
                            <a:pt x="295" y="474"/>
                          </a:lnTo>
                          <a:lnTo>
                            <a:pt x="291" y="399"/>
                          </a:lnTo>
                          <a:lnTo>
                            <a:pt x="209" y="389"/>
                          </a:lnTo>
                          <a:lnTo>
                            <a:pt x="183" y="443"/>
                          </a:lnTo>
                          <a:lnTo>
                            <a:pt x="112" y="407"/>
                          </a:lnTo>
                          <a:lnTo>
                            <a:pt x="149" y="364"/>
                          </a:lnTo>
                          <a:lnTo>
                            <a:pt x="112" y="298"/>
                          </a:lnTo>
                          <a:lnTo>
                            <a:pt x="45" y="310"/>
                          </a:lnTo>
                          <a:lnTo>
                            <a:pt x="37" y="247"/>
                          </a:lnTo>
                          <a:lnTo>
                            <a:pt x="110" y="234"/>
                          </a:lnTo>
                          <a:lnTo>
                            <a:pt x="118" y="146"/>
                          </a:lnTo>
                          <a:lnTo>
                            <a:pt x="76" y="115"/>
                          </a:lnTo>
                          <a:lnTo>
                            <a:pt x="131" y="46"/>
                          </a:lnTo>
                          <a:lnTo>
                            <a:pt x="104" y="28"/>
                          </a:lnTo>
                          <a:lnTo>
                            <a:pt x="37" y="125"/>
                          </a:lnTo>
                          <a:lnTo>
                            <a:pt x="92" y="161"/>
                          </a:lnTo>
                          <a:lnTo>
                            <a:pt x="82" y="210"/>
                          </a:lnTo>
                          <a:lnTo>
                            <a:pt x="0" y="234"/>
                          </a:lnTo>
                          <a:lnTo>
                            <a:pt x="21" y="338"/>
                          </a:lnTo>
                          <a:lnTo>
                            <a:pt x="100" y="334"/>
                          </a:lnTo>
                          <a:lnTo>
                            <a:pt x="118" y="362"/>
                          </a:lnTo>
                          <a:lnTo>
                            <a:pt x="73" y="419"/>
                          </a:lnTo>
                          <a:lnTo>
                            <a:pt x="173" y="465"/>
                          </a:lnTo>
                          <a:lnTo>
                            <a:pt x="201" y="471"/>
                          </a:lnTo>
                          <a:lnTo>
                            <a:pt x="228" y="411"/>
                          </a:lnTo>
                          <a:lnTo>
                            <a:pt x="258" y="429"/>
                          </a:lnTo>
                          <a:lnTo>
                            <a:pt x="273" y="492"/>
                          </a:lnTo>
                          <a:lnTo>
                            <a:pt x="386" y="490"/>
                          </a:lnTo>
                          <a:lnTo>
                            <a:pt x="386" y="411"/>
                          </a:lnTo>
                          <a:lnTo>
                            <a:pt x="394" y="407"/>
                          </a:lnTo>
                          <a:lnTo>
                            <a:pt x="439" y="462"/>
                          </a:lnTo>
                          <a:lnTo>
                            <a:pt x="536" y="371"/>
                          </a:lnTo>
                          <a:lnTo>
                            <a:pt x="518" y="344"/>
                          </a:lnTo>
                          <a:lnTo>
                            <a:pt x="463" y="316"/>
                          </a:lnTo>
                          <a:lnTo>
                            <a:pt x="482" y="301"/>
                          </a:lnTo>
                          <a:lnTo>
                            <a:pt x="603" y="283"/>
                          </a:lnTo>
                          <a:lnTo>
                            <a:pt x="567" y="164"/>
                          </a:lnTo>
                          <a:lnTo>
                            <a:pt x="455" y="192"/>
                          </a:lnTo>
                          <a:lnTo>
                            <a:pt x="449" y="188"/>
                          </a:lnTo>
                          <a:lnTo>
                            <a:pt x="540" y="115"/>
                          </a:lnTo>
                          <a:lnTo>
                            <a:pt x="455" y="46"/>
                          </a:lnTo>
                          <a:lnTo>
                            <a:pt x="431" y="61"/>
                          </a:lnTo>
                          <a:lnTo>
                            <a:pt x="374" y="101"/>
                          </a:lnTo>
                          <a:lnTo>
                            <a:pt x="340" y="91"/>
                          </a:lnTo>
                          <a:lnTo>
                            <a:pt x="340" y="0"/>
                          </a:lnTo>
                          <a:lnTo>
                            <a:pt x="248" y="6"/>
                          </a:lnTo>
                          <a:lnTo>
                            <a:pt x="218" y="70"/>
                          </a:lnTo>
                          <a:lnTo>
                            <a:pt x="165" y="70"/>
                          </a:lnTo>
                          <a:lnTo>
                            <a:pt x="165" y="9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>
                      <a:off x="8418240" y="1320480"/>
                      <a:ext cx="471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77">
                          <a:moveTo>
                            <a:pt x="65" y="77"/>
                          </a:moveTo>
                          <a:lnTo>
                            <a:pt x="0" y="14"/>
                          </a:lnTo>
                          <a:lnTo>
                            <a:pt x="14" y="0"/>
                          </a:lnTo>
                          <a:lnTo>
                            <a:pt x="101" y="66"/>
                          </a:lnTo>
                          <a:lnTo>
                            <a:pt x="65" y="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8359920" y="1408680"/>
                  <a:ext cx="471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8751240" y="1244880"/>
                <a:ext cx="164160" cy="272520"/>
                <a:chOff x="8751240" y="1244880"/>
                <a:chExt cx="164160" cy="27252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8758800" y="1250640"/>
                  <a:ext cx="146880" cy="256680"/>
                </a:xfrm>
                <a:custGeom>
                  <a:avLst/>
                  <a:gdLst/>
                  <a:ahLst/>
                  <a:rect l="l" t="t" r="r" b="b"/>
                  <a:pathLst>
                    <a:path w="308" h="542">
                      <a:moveTo>
                        <a:pt x="47" y="103"/>
                      </a:moveTo>
                      <a:lnTo>
                        <a:pt x="107" y="44"/>
                      </a:lnTo>
                      <a:lnTo>
                        <a:pt x="189" y="0"/>
                      </a:lnTo>
                      <a:lnTo>
                        <a:pt x="256" y="22"/>
                      </a:lnTo>
                      <a:lnTo>
                        <a:pt x="301" y="74"/>
                      </a:lnTo>
                      <a:lnTo>
                        <a:pt x="308" y="120"/>
                      </a:lnTo>
                      <a:lnTo>
                        <a:pt x="294" y="202"/>
                      </a:lnTo>
                      <a:lnTo>
                        <a:pt x="261" y="303"/>
                      </a:lnTo>
                      <a:lnTo>
                        <a:pt x="218" y="379"/>
                      </a:lnTo>
                      <a:lnTo>
                        <a:pt x="156" y="458"/>
                      </a:lnTo>
                      <a:lnTo>
                        <a:pt x="62" y="542"/>
                      </a:lnTo>
                      <a:lnTo>
                        <a:pt x="0" y="473"/>
                      </a:lnTo>
                      <a:lnTo>
                        <a:pt x="149" y="333"/>
                      </a:lnTo>
                      <a:lnTo>
                        <a:pt x="211" y="206"/>
                      </a:lnTo>
                      <a:lnTo>
                        <a:pt x="226" y="113"/>
                      </a:lnTo>
                      <a:lnTo>
                        <a:pt x="204" y="89"/>
                      </a:lnTo>
                      <a:lnTo>
                        <a:pt x="159" y="84"/>
                      </a:lnTo>
                      <a:lnTo>
                        <a:pt x="121" y="113"/>
                      </a:lnTo>
                      <a:lnTo>
                        <a:pt x="104" y="158"/>
                      </a:lnTo>
                      <a:lnTo>
                        <a:pt x="47" y="103"/>
                      </a:lnTo>
                      <a:close/>
                    </a:path>
                  </a:pathLst>
                </a:custGeom>
                <a:solidFill>
                  <a:srgbClr val="caa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8751240" y="1244880"/>
                  <a:ext cx="164160" cy="272520"/>
                  <a:chOff x="8751240" y="1244880"/>
                  <a:chExt cx="164160" cy="2725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>
                    <a:off x="8751240" y="1244880"/>
                    <a:ext cx="1641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574">
                        <a:moveTo>
                          <a:pt x="119" y="156"/>
                        </a:moveTo>
                        <a:lnTo>
                          <a:pt x="150" y="101"/>
                        </a:lnTo>
                        <a:lnTo>
                          <a:pt x="193" y="79"/>
                        </a:lnTo>
                        <a:lnTo>
                          <a:pt x="238" y="94"/>
                        </a:lnTo>
                        <a:lnTo>
                          <a:pt x="253" y="108"/>
                        </a:lnTo>
                        <a:lnTo>
                          <a:pt x="259" y="140"/>
                        </a:lnTo>
                        <a:lnTo>
                          <a:pt x="246" y="211"/>
                        </a:lnTo>
                        <a:lnTo>
                          <a:pt x="186" y="340"/>
                        </a:lnTo>
                        <a:lnTo>
                          <a:pt x="90" y="434"/>
                        </a:lnTo>
                        <a:lnTo>
                          <a:pt x="45" y="480"/>
                        </a:lnTo>
                        <a:lnTo>
                          <a:pt x="95" y="524"/>
                        </a:lnTo>
                        <a:lnTo>
                          <a:pt x="172" y="444"/>
                        </a:lnTo>
                        <a:lnTo>
                          <a:pt x="251" y="338"/>
                        </a:lnTo>
                        <a:lnTo>
                          <a:pt x="283" y="259"/>
                        </a:lnTo>
                        <a:lnTo>
                          <a:pt x="310" y="175"/>
                        </a:lnTo>
                        <a:lnTo>
                          <a:pt x="321" y="118"/>
                        </a:lnTo>
                        <a:lnTo>
                          <a:pt x="298" y="74"/>
                        </a:lnTo>
                        <a:lnTo>
                          <a:pt x="253" y="41"/>
                        </a:lnTo>
                        <a:lnTo>
                          <a:pt x="193" y="27"/>
                        </a:lnTo>
                        <a:lnTo>
                          <a:pt x="131" y="57"/>
                        </a:lnTo>
                        <a:lnTo>
                          <a:pt x="105" y="96"/>
                        </a:lnTo>
                        <a:lnTo>
                          <a:pt x="72" y="132"/>
                        </a:lnTo>
                        <a:lnTo>
                          <a:pt x="38" y="125"/>
                        </a:lnTo>
                        <a:lnTo>
                          <a:pt x="95" y="67"/>
                        </a:lnTo>
                        <a:lnTo>
                          <a:pt x="139" y="27"/>
                        </a:lnTo>
                        <a:lnTo>
                          <a:pt x="191" y="0"/>
                        </a:lnTo>
                        <a:lnTo>
                          <a:pt x="238" y="0"/>
                        </a:lnTo>
                        <a:lnTo>
                          <a:pt x="274" y="19"/>
                        </a:lnTo>
                        <a:lnTo>
                          <a:pt x="305" y="41"/>
                        </a:lnTo>
                        <a:lnTo>
                          <a:pt x="328" y="67"/>
                        </a:lnTo>
                        <a:lnTo>
                          <a:pt x="343" y="111"/>
                        </a:lnTo>
                        <a:lnTo>
                          <a:pt x="340" y="163"/>
                        </a:lnTo>
                        <a:lnTo>
                          <a:pt x="313" y="242"/>
                        </a:lnTo>
                        <a:lnTo>
                          <a:pt x="283" y="332"/>
                        </a:lnTo>
                        <a:lnTo>
                          <a:pt x="253" y="382"/>
                        </a:lnTo>
                        <a:lnTo>
                          <a:pt x="209" y="441"/>
                        </a:lnTo>
                        <a:lnTo>
                          <a:pt x="139" y="514"/>
                        </a:lnTo>
                        <a:lnTo>
                          <a:pt x="79" y="574"/>
                        </a:lnTo>
                        <a:lnTo>
                          <a:pt x="0" y="478"/>
                        </a:lnTo>
                        <a:lnTo>
                          <a:pt x="88" y="396"/>
                        </a:lnTo>
                        <a:lnTo>
                          <a:pt x="155" y="338"/>
                        </a:lnTo>
                        <a:lnTo>
                          <a:pt x="198" y="271"/>
                        </a:lnTo>
                        <a:lnTo>
                          <a:pt x="217" y="214"/>
                        </a:lnTo>
                        <a:lnTo>
                          <a:pt x="229" y="156"/>
                        </a:lnTo>
                        <a:lnTo>
                          <a:pt x="229" y="118"/>
                        </a:lnTo>
                        <a:lnTo>
                          <a:pt x="209" y="108"/>
                        </a:lnTo>
                        <a:lnTo>
                          <a:pt x="186" y="111"/>
                        </a:lnTo>
                        <a:lnTo>
                          <a:pt x="155" y="137"/>
                        </a:lnTo>
                        <a:lnTo>
                          <a:pt x="127" y="185"/>
                        </a:lnTo>
                        <a:lnTo>
                          <a:pt x="1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8848440" y="1299240"/>
                    <a:ext cx="48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9">
                        <a:moveTo>
                          <a:pt x="38" y="0"/>
                        </a:moveTo>
                        <a:lnTo>
                          <a:pt x="101" y="44"/>
                        </a:lnTo>
                        <a:lnTo>
                          <a:pt x="92" y="69"/>
                        </a:lnTo>
                        <a:lnTo>
                          <a:pt x="0" y="9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8468280" y="1476000"/>
                <a:ext cx="357120" cy="200160"/>
                <a:chOff x="8468280" y="1476000"/>
                <a:chExt cx="357120" cy="20016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8480160" y="1481760"/>
                  <a:ext cx="325080" cy="192600"/>
                </a:xfrm>
                <a:custGeom>
                  <a:avLst/>
                  <a:gdLst/>
                  <a:ahLst/>
                  <a:rect l="l" t="t" r="r" b="b"/>
                  <a:pathLst>
                    <a:path w="686" h="403">
                      <a:moveTo>
                        <a:pt x="0" y="127"/>
                      </a:moveTo>
                      <a:lnTo>
                        <a:pt x="295" y="0"/>
                      </a:lnTo>
                      <a:lnTo>
                        <a:pt x="423" y="82"/>
                      </a:lnTo>
                      <a:lnTo>
                        <a:pt x="502" y="110"/>
                      </a:lnTo>
                      <a:lnTo>
                        <a:pt x="674" y="162"/>
                      </a:lnTo>
                      <a:lnTo>
                        <a:pt x="686" y="207"/>
                      </a:lnTo>
                      <a:lnTo>
                        <a:pt x="446" y="355"/>
                      </a:lnTo>
                      <a:lnTo>
                        <a:pt x="406" y="403"/>
                      </a:lnTo>
                      <a:lnTo>
                        <a:pt x="334" y="351"/>
                      </a:lnTo>
                      <a:lnTo>
                        <a:pt x="261" y="291"/>
                      </a:lnTo>
                      <a:lnTo>
                        <a:pt x="54" y="169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8468280" y="1476000"/>
                  <a:ext cx="357120" cy="200160"/>
                  <a:chOff x="8468280" y="1476000"/>
                  <a:chExt cx="357120" cy="2001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>
                    <a:off x="8468280" y="1476000"/>
                    <a:ext cx="35712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422">
                        <a:moveTo>
                          <a:pt x="714" y="157"/>
                        </a:moveTo>
                        <a:lnTo>
                          <a:pt x="594" y="126"/>
                        </a:lnTo>
                        <a:lnTo>
                          <a:pt x="493" y="95"/>
                        </a:lnTo>
                        <a:lnTo>
                          <a:pt x="409" y="45"/>
                        </a:lnTo>
                        <a:lnTo>
                          <a:pt x="351" y="0"/>
                        </a:lnTo>
                        <a:lnTo>
                          <a:pt x="317" y="19"/>
                        </a:lnTo>
                        <a:lnTo>
                          <a:pt x="343" y="57"/>
                        </a:lnTo>
                        <a:lnTo>
                          <a:pt x="395" y="72"/>
                        </a:lnTo>
                        <a:lnTo>
                          <a:pt x="491" y="117"/>
                        </a:lnTo>
                        <a:lnTo>
                          <a:pt x="574" y="148"/>
                        </a:lnTo>
                        <a:lnTo>
                          <a:pt x="669" y="179"/>
                        </a:lnTo>
                        <a:lnTo>
                          <a:pt x="707" y="191"/>
                        </a:lnTo>
                        <a:lnTo>
                          <a:pt x="707" y="200"/>
                        </a:lnTo>
                        <a:lnTo>
                          <a:pt x="707" y="216"/>
                        </a:lnTo>
                        <a:lnTo>
                          <a:pt x="674" y="238"/>
                        </a:lnTo>
                        <a:lnTo>
                          <a:pt x="596" y="283"/>
                        </a:lnTo>
                        <a:lnTo>
                          <a:pt x="537" y="320"/>
                        </a:lnTo>
                        <a:lnTo>
                          <a:pt x="478" y="357"/>
                        </a:lnTo>
                        <a:lnTo>
                          <a:pt x="449" y="395"/>
                        </a:lnTo>
                        <a:lnTo>
                          <a:pt x="351" y="317"/>
                        </a:lnTo>
                        <a:lnTo>
                          <a:pt x="235" y="253"/>
                        </a:lnTo>
                        <a:lnTo>
                          <a:pt x="139" y="191"/>
                        </a:lnTo>
                        <a:lnTo>
                          <a:pt x="86" y="154"/>
                        </a:lnTo>
                        <a:lnTo>
                          <a:pt x="48" y="138"/>
                        </a:lnTo>
                        <a:lnTo>
                          <a:pt x="19" y="134"/>
                        </a:lnTo>
                        <a:lnTo>
                          <a:pt x="0" y="146"/>
                        </a:lnTo>
                        <a:lnTo>
                          <a:pt x="21" y="162"/>
                        </a:lnTo>
                        <a:lnTo>
                          <a:pt x="71" y="186"/>
                        </a:lnTo>
                        <a:lnTo>
                          <a:pt x="192" y="260"/>
                        </a:lnTo>
                        <a:lnTo>
                          <a:pt x="284" y="312"/>
                        </a:lnTo>
                        <a:lnTo>
                          <a:pt x="358" y="357"/>
                        </a:lnTo>
                        <a:lnTo>
                          <a:pt x="424" y="417"/>
                        </a:lnTo>
                        <a:lnTo>
                          <a:pt x="456" y="422"/>
                        </a:lnTo>
                        <a:lnTo>
                          <a:pt x="486" y="400"/>
                        </a:lnTo>
                        <a:lnTo>
                          <a:pt x="534" y="355"/>
                        </a:lnTo>
                        <a:lnTo>
                          <a:pt x="611" y="317"/>
                        </a:lnTo>
                        <a:lnTo>
                          <a:pt x="692" y="267"/>
                        </a:lnTo>
                        <a:lnTo>
                          <a:pt x="748" y="231"/>
                        </a:lnTo>
                        <a:lnTo>
                          <a:pt x="743" y="208"/>
                        </a:lnTo>
                        <a:lnTo>
                          <a:pt x="736" y="176"/>
                        </a:lnTo>
                        <a:lnTo>
                          <a:pt x="7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8658720" y="1477440"/>
                    <a:ext cx="1627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63">
                        <a:moveTo>
                          <a:pt x="0" y="142"/>
                        </a:moveTo>
                        <a:lnTo>
                          <a:pt x="74" y="116"/>
                        </a:lnTo>
                        <a:lnTo>
                          <a:pt x="179" y="73"/>
                        </a:lnTo>
                        <a:lnTo>
                          <a:pt x="272" y="18"/>
                        </a:lnTo>
                        <a:lnTo>
                          <a:pt x="325" y="0"/>
                        </a:lnTo>
                        <a:lnTo>
                          <a:pt x="339" y="2"/>
                        </a:lnTo>
                        <a:lnTo>
                          <a:pt x="342" y="18"/>
                        </a:lnTo>
                        <a:lnTo>
                          <a:pt x="289" y="41"/>
                        </a:lnTo>
                        <a:lnTo>
                          <a:pt x="220" y="80"/>
                        </a:lnTo>
                        <a:lnTo>
                          <a:pt x="112" y="126"/>
                        </a:lnTo>
                        <a:lnTo>
                          <a:pt x="43" y="163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8455680" y="1240560"/>
                <a:ext cx="298080" cy="228240"/>
                <a:chOff x="8455680" y="1240560"/>
                <a:chExt cx="298080" cy="22824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8463960" y="1251720"/>
                  <a:ext cx="285480" cy="215640"/>
                </a:xfrm>
                <a:custGeom>
                  <a:avLst/>
                  <a:gdLst/>
                  <a:ahLst/>
                  <a:rect l="l" t="t" r="r" b="b"/>
                  <a:pathLst>
                    <a:path w="599" h="452">
                      <a:moveTo>
                        <a:pt x="0" y="390"/>
                      </a:moveTo>
                      <a:lnTo>
                        <a:pt x="81" y="308"/>
                      </a:lnTo>
                      <a:lnTo>
                        <a:pt x="131" y="220"/>
                      </a:lnTo>
                      <a:lnTo>
                        <a:pt x="182" y="119"/>
                      </a:lnTo>
                      <a:lnTo>
                        <a:pt x="204" y="14"/>
                      </a:lnTo>
                      <a:lnTo>
                        <a:pt x="592" y="0"/>
                      </a:lnTo>
                      <a:lnTo>
                        <a:pt x="599" y="29"/>
                      </a:lnTo>
                      <a:lnTo>
                        <a:pt x="547" y="175"/>
                      </a:lnTo>
                      <a:lnTo>
                        <a:pt x="515" y="234"/>
                      </a:lnTo>
                      <a:lnTo>
                        <a:pt x="443" y="316"/>
                      </a:lnTo>
                      <a:lnTo>
                        <a:pt x="369" y="404"/>
                      </a:lnTo>
                      <a:lnTo>
                        <a:pt x="333" y="444"/>
                      </a:lnTo>
                      <a:lnTo>
                        <a:pt x="148" y="452"/>
                      </a:lnTo>
                      <a:lnTo>
                        <a:pt x="67" y="444"/>
                      </a:lnTo>
                      <a:lnTo>
                        <a:pt x="7" y="420"/>
                      </a:lnTo>
                      <a:lnTo>
                        <a:pt x="0" y="3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8455680" y="1240560"/>
                  <a:ext cx="298080" cy="228240"/>
                </a:xfrm>
                <a:custGeom>
                  <a:avLst/>
                  <a:gdLst/>
                  <a:ahLst/>
                  <a:rect l="l" t="t" r="r" b="b"/>
                  <a:pathLst>
                    <a:path w="625" h="479">
                      <a:moveTo>
                        <a:pt x="39" y="412"/>
                      </a:moveTo>
                      <a:lnTo>
                        <a:pt x="121" y="312"/>
                      </a:lnTo>
                      <a:lnTo>
                        <a:pt x="179" y="192"/>
                      </a:lnTo>
                      <a:lnTo>
                        <a:pt x="208" y="111"/>
                      </a:lnTo>
                      <a:lnTo>
                        <a:pt x="227" y="58"/>
                      </a:lnTo>
                      <a:lnTo>
                        <a:pt x="304" y="43"/>
                      </a:lnTo>
                      <a:lnTo>
                        <a:pt x="488" y="50"/>
                      </a:lnTo>
                      <a:lnTo>
                        <a:pt x="584" y="53"/>
                      </a:lnTo>
                      <a:lnTo>
                        <a:pt x="559" y="132"/>
                      </a:lnTo>
                      <a:lnTo>
                        <a:pt x="514" y="235"/>
                      </a:lnTo>
                      <a:lnTo>
                        <a:pt x="441" y="331"/>
                      </a:lnTo>
                      <a:lnTo>
                        <a:pt x="370" y="412"/>
                      </a:lnTo>
                      <a:lnTo>
                        <a:pt x="338" y="450"/>
                      </a:lnTo>
                      <a:lnTo>
                        <a:pt x="246" y="460"/>
                      </a:lnTo>
                      <a:lnTo>
                        <a:pt x="59" y="450"/>
                      </a:lnTo>
                      <a:lnTo>
                        <a:pt x="91" y="474"/>
                      </a:lnTo>
                      <a:lnTo>
                        <a:pt x="236" y="479"/>
                      </a:lnTo>
                      <a:lnTo>
                        <a:pt x="353" y="472"/>
                      </a:lnTo>
                      <a:lnTo>
                        <a:pt x="422" y="400"/>
                      </a:lnTo>
                      <a:lnTo>
                        <a:pt x="500" y="295"/>
                      </a:lnTo>
                      <a:lnTo>
                        <a:pt x="562" y="206"/>
                      </a:lnTo>
                      <a:lnTo>
                        <a:pt x="596" y="124"/>
                      </a:lnTo>
                      <a:lnTo>
                        <a:pt x="618" y="65"/>
                      </a:lnTo>
                      <a:lnTo>
                        <a:pt x="625" y="34"/>
                      </a:lnTo>
                      <a:lnTo>
                        <a:pt x="605" y="0"/>
                      </a:lnTo>
                      <a:lnTo>
                        <a:pt x="552" y="8"/>
                      </a:lnTo>
                      <a:lnTo>
                        <a:pt x="393" y="20"/>
                      </a:lnTo>
                      <a:lnTo>
                        <a:pt x="243" y="20"/>
                      </a:lnTo>
                      <a:lnTo>
                        <a:pt x="206" y="20"/>
                      </a:lnTo>
                      <a:lnTo>
                        <a:pt x="184" y="65"/>
                      </a:lnTo>
                      <a:lnTo>
                        <a:pt x="169" y="161"/>
                      </a:lnTo>
                      <a:lnTo>
                        <a:pt x="128" y="237"/>
                      </a:lnTo>
                      <a:lnTo>
                        <a:pt x="73" y="324"/>
                      </a:lnTo>
                      <a:lnTo>
                        <a:pt x="29" y="376"/>
                      </a:lnTo>
                      <a:lnTo>
                        <a:pt x="0" y="408"/>
                      </a:lnTo>
                      <a:lnTo>
                        <a:pt x="8" y="437"/>
                      </a:lnTo>
                      <a:lnTo>
                        <a:pt x="39" y="443"/>
                      </a:lnTo>
                      <a:lnTo>
                        <a:pt x="39" y="4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8670240" y="471960"/>
                <a:ext cx="144000" cy="144000"/>
                <a:chOff x="8670240" y="471960"/>
                <a:chExt cx="144000" cy="1440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8670240" y="581760"/>
                  <a:ext cx="3528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8705520" y="471960"/>
                  <a:ext cx="108720" cy="114120"/>
                </a:xfrm>
                <a:custGeom>
                  <a:avLst/>
                  <a:gdLst/>
                  <a:ahLst/>
                  <a:rect l="l" t="t" r="r" b="b"/>
                  <a:pathLst>
                    <a:path w="227" h="242">
                      <a:moveTo>
                        <a:pt x="182" y="157"/>
                      </a:moveTo>
                      <a:lnTo>
                        <a:pt x="182" y="171"/>
                      </a:lnTo>
                      <a:lnTo>
                        <a:pt x="227" y="204"/>
                      </a:lnTo>
                      <a:lnTo>
                        <a:pt x="199" y="242"/>
                      </a:lnTo>
                      <a:lnTo>
                        <a:pt x="154" y="212"/>
                      </a:lnTo>
                      <a:lnTo>
                        <a:pt x="138" y="181"/>
                      </a:lnTo>
                      <a:lnTo>
                        <a:pt x="136" y="148"/>
                      </a:lnTo>
                      <a:lnTo>
                        <a:pt x="131" y="113"/>
                      </a:lnTo>
                      <a:lnTo>
                        <a:pt x="128" y="80"/>
                      </a:lnTo>
                      <a:lnTo>
                        <a:pt x="114" y="66"/>
                      </a:lnTo>
                      <a:lnTo>
                        <a:pt x="93" y="58"/>
                      </a:lnTo>
                      <a:lnTo>
                        <a:pt x="70" y="61"/>
                      </a:lnTo>
                      <a:lnTo>
                        <a:pt x="47" y="89"/>
                      </a:lnTo>
                      <a:lnTo>
                        <a:pt x="47" y="113"/>
                      </a:lnTo>
                      <a:lnTo>
                        <a:pt x="63" y="136"/>
                      </a:lnTo>
                      <a:lnTo>
                        <a:pt x="37" y="174"/>
                      </a:lnTo>
                      <a:lnTo>
                        <a:pt x="14" y="148"/>
                      </a:lnTo>
                      <a:lnTo>
                        <a:pt x="0" y="113"/>
                      </a:lnTo>
                      <a:lnTo>
                        <a:pt x="2" y="73"/>
                      </a:lnTo>
                      <a:lnTo>
                        <a:pt x="14" y="35"/>
                      </a:lnTo>
                      <a:lnTo>
                        <a:pt x="53" y="7"/>
                      </a:lnTo>
                      <a:lnTo>
                        <a:pt x="91" y="0"/>
                      </a:lnTo>
                      <a:lnTo>
                        <a:pt x="114" y="5"/>
                      </a:lnTo>
                      <a:lnTo>
                        <a:pt x="138" y="15"/>
                      </a:lnTo>
                      <a:lnTo>
                        <a:pt x="169" y="43"/>
                      </a:lnTo>
                      <a:lnTo>
                        <a:pt x="173" y="75"/>
                      </a:lnTo>
                      <a:lnTo>
                        <a:pt x="173" y="106"/>
                      </a:lnTo>
                      <a:lnTo>
                        <a:pt x="173" y="129"/>
                      </a:lnTo>
                      <a:lnTo>
                        <a:pt x="18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8077320" y="392040"/>
                <a:ext cx="129240" cy="156600"/>
                <a:chOff x="8077320" y="392040"/>
                <a:chExt cx="129240" cy="156600"/>
              </a:xfrm>
            </p:grpSpPr>
            <p:sp>
              <p:nvSpPr>
                <p:cNvPr id="198" name=""/>
                <p:cNvSpPr/>
                <p:nvPr/>
              </p:nvSpPr>
              <p:spPr>
                <a:xfrm flipH="1">
                  <a:off x="8172720" y="511920"/>
                  <a:ext cx="33840" cy="3672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44" y="77"/>
                      </a:moveTo>
                      <a:lnTo>
                        <a:pt x="49" y="75"/>
                      </a:lnTo>
                      <a:lnTo>
                        <a:pt x="55" y="70"/>
                      </a:lnTo>
                      <a:lnTo>
                        <a:pt x="59" y="68"/>
                      </a:lnTo>
                      <a:lnTo>
                        <a:pt x="65" y="64"/>
                      </a:lnTo>
                      <a:lnTo>
                        <a:pt x="67" y="58"/>
                      </a:lnTo>
                      <a:lnTo>
                        <a:pt x="71" y="51"/>
                      </a:lnTo>
                      <a:lnTo>
                        <a:pt x="72" y="46"/>
                      </a:lnTo>
                      <a:lnTo>
                        <a:pt x="73" y="40"/>
                      </a:lnTo>
                      <a:lnTo>
                        <a:pt x="72" y="33"/>
                      </a:lnTo>
                      <a:lnTo>
                        <a:pt x="71" y="27"/>
                      </a:lnTo>
                      <a:lnTo>
                        <a:pt x="66" y="21"/>
                      </a:lnTo>
                      <a:lnTo>
                        <a:pt x="65" y="16"/>
                      </a:lnTo>
                      <a:lnTo>
                        <a:pt x="59" y="11"/>
                      </a:lnTo>
                      <a:lnTo>
                        <a:pt x="54" y="6"/>
                      </a:lnTo>
                      <a:lnTo>
                        <a:pt x="48" y="4"/>
                      </a:lnTo>
                      <a:lnTo>
                        <a:pt x="44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2"/>
                      </a:lnTo>
                      <a:lnTo>
                        <a:pt x="19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3" y="51"/>
                      </a:lnTo>
                      <a:lnTo>
                        <a:pt x="8" y="57"/>
                      </a:lnTo>
                      <a:lnTo>
                        <a:pt x="9" y="62"/>
                      </a:lnTo>
                      <a:lnTo>
                        <a:pt x="15" y="67"/>
                      </a:lnTo>
                      <a:lnTo>
                        <a:pt x="20" y="72"/>
                      </a:lnTo>
                      <a:lnTo>
                        <a:pt x="26" y="74"/>
                      </a:lnTo>
                      <a:lnTo>
                        <a:pt x="30" y="77"/>
                      </a:lnTo>
                      <a:lnTo>
                        <a:pt x="38" y="78"/>
                      </a:lnTo>
                      <a:lnTo>
                        <a:pt x="44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8076960" y="392040"/>
                  <a:ext cx="106920" cy="117000"/>
                </a:xfrm>
                <a:custGeom>
                  <a:avLst/>
                  <a:gdLst/>
                  <a:ahLst/>
                  <a:rect l="l" t="t" r="r" b="b"/>
                  <a:pathLst>
                    <a:path w="223" h="244">
                      <a:moveTo>
                        <a:pt x="82" y="188"/>
                      </a:moveTo>
                      <a:lnTo>
                        <a:pt x="66" y="190"/>
                      </a:lnTo>
                      <a:lnTo>
                        <a:pt x="43" y="244"/>
                      </a:lnTo>
                      <a:lnTo>
                        <a:pt x="0" y="221"/>
                      </a:lnTo>
                      <a:lnTo>
                        <a:pt x="23" y="171"/>
                      </a:lnTo>
                      <a:lnTo>
                        <a:pt x="49" y="153"/>
                      </a:lnTo>
                      <a:lnTo>
                        <a:pt x="84" y="143"/>
                      </a:lnTo>
                      <a:lnTo>
                        <a:pt x="117" y="133"/>
                      </a:lnTo>
                      <a:lnTo>
                        <a:pt x="147" y="124"/>
                      </a:lnTo>
                      <a:lnTo>
                        <a:pt x="159" y="108"/>
                      </a:lnTo>
                      <a:lnTo>
                        <a:pt x="164" y="85"/>
                      </a:lnTo>
                      <a:lnTo>
                        <a:pt x="157" y="63"/>
                      </a:lnTo>
                      <a:lnTo>
                        <a:pt x="127" y="45"/>
                      </a:lnTo>
                      <a:lnTo>
                        <a:pt x="99" y="49"/>
                      </a:lnTo>
                      <a:lnTo>
                        <a:pt x="82" y="70"/>
                      </a:lnTo>
                      <a:lnTo>
                        <a:pt x="40" y="53"/>
                      </a:lnTo>
                      <a:lnTo>
                        <a:pt x="61" y="23"/>
                      </a:lnTo>
                      <a:lnTo>
                        <a:pt x="89" y="2"/>
                      </a:lnTo>
                      <a:lnTo>
                        <a:pt x="131" y="0"/>
                      </a:lnTo>
                      <a:lnTo>
                        <a:pt x="174" y="2"/>
                      </a:lnTo>
                      <a:lnTo>
                        <a:pt x="204" y="37"/>
                      </a:lnTo>
                      <a:lnTo>
                        <a:pt x="223" y="72"/>
                      </a:lnTo>
                      <a:lnTo>
                        <a:pt x="220" y="98"/>
                      </a:lnTo>
                      <a:lnTo>
                        <a:pt x="213" y="124"/>
                      </a:lnTo>
                      <a:lnTo>
                        <a:pt x="192" y="159"/>
                      </a:lnTo>
                      <a:lnTo>
                        <a:pt x="162" y="166"/>
                      </a:lnTo>
                      <a:lnTo>
                        <a:pt x="131" y="173"/>
                      </a:lnTo>
                      <a:lnTo>
                        <a:pt x="106" y="176"/>
                      </a:lnTo>
                      <a:lnTo>
                        <a:pt x="82" y="1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28880" y="514800"/>
                <a:ext cx="386640" cy="746640"/>
                <a:chOff x="8228880" y="514800"/>
                <a:chExt cx="386640" cy="746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>
                  <a:off x="8415360" y="574560"/>
                  <a:ext cx="199800" cy="189720"/>
                </a:xfrm>
                <a:custGeom>
                  <a:avLst/>
                  <a:gdLst/>
                  <a:ahLst/>
                  <a:rect l="l" t="t" r="r" b="b"/>
                  <a:pathLst>
                    <a:path w="420" h="400">
                      <a:moveTo>
                        <a:pt x="137" y="228"/>
                      </a:moveTo>
                      <a:lnTo>
                        <a:pt x="107" y="175"/>
                      </a:lnTo>
                      <a:lnTo>
                        <a:pt x="90" y="134"/>
                      </a:lnTo>
                      <a:lnTo>
                        <a:pt x="82" y="103"/>
                      </a:lnTo>
                      <a:lnTo>
                        <a:pt x="90" y="65"/>
                      </a:lnTo>
                      <a:lnTo>
                        <a:pt x="107" y="39"/>
                      </a:lnTo>
                      <a:lnTo>
                        <a:pt x="135" y="14"/>
                      </a:lnTo>
                      <a:lnTo>
                        <a:pt x="173" y="5"/>
                      </a:lnTo>
                      <a:lnTo>
                        <a:pt x="216" y="0"/>
                      </a:lnTo>
                      <a:lnTo>
                        <a:pt x="263" y="11"/>
                      </a:lnTo>
                      <a:lnTo>
                        <a:pt x="306" y="26"/>
                      </a:lnTo>
                      <a:lnTo>
                        <a:pt x="338" y="50"/>
                      </a:lnTo>
                      <a:lnTo>
                        <a:pt x="368" y="78"/>
                      </a:lnTo>
                      <a:lnTo>
                        <a:pt x="398" y="122"/>
                      </a:lnTo>
                      <a:lnTo>
                        <a:pt x="418" y="154"/>
                      </a:lnTo>
                      <a:lnTo>
                        <a:pt x="420" y="192"/>
                      </a:lnTo>
                      <a:lnTo>
                        <a:pt x="410" y="231"/>
                      </a:lnTo>
                      <a:lnTo>
                        <a:pt x="390" y="264"/>
                      </a:lnTo>
                      <a:lnTo>
                        <a:pt x="368" y="286"/>
                      </a:lnTo>
                      <a:lnTo>
                        <a:pt x="344" y="303"/>
                      </a:lnTo>
                      <a:lnTo>
                        <a:pt x="301" y="312"/>
                      </a:lnTo>
                      <a:lnTo>
                        <a:pt x="263" y="309"/>
                      </a:lnTo>
                      <a:lnTo>
                        <a:pt x="223" y="298"/>
                      </a:lnTo>
                      <a:lnTo>
                        <a:pt x="197" y="286"/>
                      </a:lnTo>
                      <a:lnTo>
                        <a:pt x="166" y="270"/>
                      </a:lnTo>
                      <a:lnTo>
                        <a:pt x="119" y="318"/>
                      </a:lnTo>
                      <a:lnTo>
                        <a:pt x="76" y="364"/>
                      </a:lnTo>
                      <a:lnTo>
                        <a:pt x="62" y="389"/>
                      </a:lnTo>
                      <a:lnTo>
                        <a:pt x="32" y="400"/>
                      </a:lnTo>
                      <a:lnTo>
                        <a:pt x="7" y="394"/>
                      </a:lnTo>
                      <a:lnTo>
                        <a:pt x="0" y="375"/>
                      </a:lnTo>
                      <a:lnTo>
                        <a:pt x="2" y="350"/>
                      </a:lnTo>
                      <a:lnTo>
                        <a:pt x="32" y="323"/>
                      </a:lnTo>
                      <a:lnTo>
                        <a:pt x="90" y="286"/>
                      </a:lnTo>
                      <a:lnTo>
                        <a:pt x="137" y="2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8290080" y="710280"/>
                  <a:ext cx="165600" cy="275400"/>
                </a:xfrm>
                <a:custGeom>
                  <a:avLst/>
                  <a:gdLst/>
                  <a:ahLst/>
                  <a:rect l="l" t="t" r="r" b="b"/>
                  <a:pathLst>
                    <a:path w="350" h="580">
                      <a:moveTo>
                        <a:pt x="30" y="20"/>
                      </a:moveTo>
                      <a:lnTo>
                        <a:pt x="59" y="5"/>
                      </a:lnTo>
                      <a:lnTo>
                        <a:pt x="90" y="0"/>
                      </a:lnTo>
                      <a:lnTo>
                        <a:pt x="125" y="0"/>
                      </a:lnTo>
                      <a:lnTo>
                        <a:pt x="170" y="12"/>
                      </a:lnTo>
                      <a:lnTo>
                        <a:pt x="208" y="34"/>
                      </a:lnTo>
                      <a:lnTo>
                        <a:pt x="245" y="67"/>
                      </a:lnTo>
                      <a:lnTo>
                        <a:pt x="274" y="108"/>
                      </a:lnTo>
                      <a:lnTo>
                        <a:pt x="300" y="154"/>
                      </a:lnTo>
                      <a:lnTo>
                        <a:pt x="327" y="212"/>
                      </a:lnTo>
                      <a:lnTo>
                        <a:pt x="343" y="263"/>
                      </a:lnTo>
                      <a:lnTo>
                        <a:pt x="350" y="322"/>
                      </a:lnTo>
                      <a:lnTo>
                        <a:pt x="350" y="383"/>
                      </a:lnTo>
                      <a:lnTo>
                        <a:pt x="345" y="433"/>
                      </a:lnTo>
                      <a:lnTo>
                        <a:pt x="335" y="477"/>
                      </a:lnTo>
                      <a:lnTo>
                        <a:pt x="319" y="515"/>
                      </a:lnTo>
                      <a:lnTo>
                        <a:pt x="285" y="543"/>
                      </a:lnTo>
                      <a:lnTo>
                        <a:pt x="260" y="565"/>
                      </a:lnTo>
                      <a:lnTo>
                        <a:pt x="208" y="580"/>
                      </a:lnTo>
                      <a:lnTo>
                        <a:pt x="158" y="575"/>
                      </a:lnTo>
                      <a:lnTo>
                        <a:pt x="127" y="560"/>
                      </a:lnTo>
                      <a:lnTo>
                        <a:pt x="102" y="520"/>
                      </a:lnTo>
                      <a:lnTo>
                        <a:pt x="80" y="479"/>
                      </a:lnTo>
                      <a:lnTo>
                        <a:pt x="68" y="425"/>
                      </a:lnTo>
                      <a:lnTo>
                        <a:pt x="80" y="359"/>
                      </a:lnTo>
                      <a:lnTo>
                        <a:pt x="95" y="315"/>
                      </a:lnTo>
                      <a:lnTo>
                        <a:pt x="102" y="272"/>
                      </a:lnTo>
                      <a:lnTo>
                        <a:pt x="97" y="236"/>
                      </a:lnTo>
                      <a:lnTo>
                        <a:pt x="82" y="199"/>
                      </a:lnTo>
                      <a:lnTo>
                        <a:pt x="52" y="169"/>
                      </a:lnTo>
                      <a:lnTo>
                        <a:pt x="28" y="152"/>
                      </a:lnTo>
                      <a:lnTo>
                        <a:pt x="7" y="125"/>
                      </a:lnTo>
                      <a:lnTo>
                        <a:pt x="0" y="94"/>
                      </a:lnTo>
                      <a:lnTo>
                        <a:pt x="0" y="67"/>
                      </a:lnTo>
                      <a:lnTo>
                        <a:pt x="12" y="41"/>
                      </a:lnTo>
                      <a:lnTo>
                        <a:pt x="3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412480" y="728640"/>
                  <a:ext cx="137160" cy="268200"/>
                </a:xfrm>
                <a:custGeom>
                  <a:avLst/>
                  <a:gdLst/>
                  <a:ahLst/>
                  <a:rect l="l" t="t" r="r" b="b"/>
                  <a:pathLst>
                    <a:path w="288" h="564">
                      <a:moveTo>
                        <a:pt x="154" y="82"/>
                      </a:moveTo>
                      <a:lnTo>
                        <a:pt x="199" y="24"/>
                      </a:lnTo>
                      <a:lnTo>
                        <a:pt x="234" y="0"/>
                      </a:lnTo>
                      <a:lnTo>
                        <a:pt x="260" y="17"/>
                      </a:lnTo>
                      <a:lnTo>
                        <a:pt x="280" y="84"/>
                      </a:lnTo>
                      <a:lnTo>
                        <a:pt x="267" y="111"/>
                      </a:lnTo>
                      <a:lnTo>
                        <a:pt x="199" y="135"/>
                      </a:lnTo>
                      <a:lnTo>
                        <a:pt x="152" y="170"/>
                      </a:lnTo>
                      <a:lnTo>
                        <a:pt x="93" y="214"/>
                      </a:lnTo>
                      <a:lnTo>
                        <a:pt x="61" y="252"/>
                      </a:lnTo>
                      <a:lnTo>
                        <a:pt x="56" y="274"/>
                      </a:lnTo>
                      <a:lnTo>
                        <a:pt x="70" y="296"/>
                      </a:lnTo>
                      <a:lnTo>
                        <a:pt x="86" y="317"/>
                      </a:lnTo>
                      <a:lnTo>
                        <a:pt x="144" y="358"/>
                      </a:lnTo>
                      <a:lnTo>
                        <a:pt x="199" y="387"/>
                      </a:lnTo>
                      <a:lnTo>
                        <a:pt x="250" y="399"/>
                      </a:lnTo>
                      <a:lnTo>
                        <a:pt x="273" y="394"/>
                      </a:lnTo>
                      <a:lnTo>
                        <a:pt x="283" y="401"/>
                      </a:lnTo>
                      <a:lnTo>
                        <a:pt x="288" y="421"/>
                      </a:lnTo>
                      <a:lnTo>
                        <a:pt x="253" y="451"/>
                      </a:lnTo>
                      <a:lnTo>
                        <a:pt x="227" y="483"/>
                      </a:lnTo>
                      <a:lnTo>
                        <a:pt x="220" y="520"/>
                      </a:lnTo>
                      <a:lnTo>
                        <a:pt x="215" y="554"/>
                      </a:lnTo>
                      <a:lnTo>
                        <a:pt x="192" y="564"/>
                      </a:lnTo>
                      <a:lnTo>
                        <a:pt x="174" y="554"/>
                      </a:lnTo>
                      <a:lnTo>
                        <a:pt x="177" y="512"/>
                      </a:lnTo>
                      <a:lnTo>
                        <a:pt x="192" y="466"/>
                      </a:lnTo>
                      <a:lnTo>
                        <a:pt x="220" y="424"/>
                      </a:lnTo>
                      <a:lnTo>
                        <a:pt x="161" y="409"/>
                      </a:lnTo>
                      <a:lnTo>
                        <a:pt x="98" y="384"/>
                      </a:lnTo>
                      <a:lnTo>
                        <a:pt x="45" y="350"/>
                      </a:lnTo>
                      <a:lnTo>
                        <a:pt x="18" y="320"/>
                      </a:lnTo>
                      <a:lnTo>
                        <a:pt x="0" y="276"/>
                      </a:lnTo>
                      <a:lnTo>
                        <a:pt x="0" y="252"/>
                      </a:lnTo>
                      <a:lnTo>
                        <a:pt x="14" y="214"/>
                      </a:lnTo>
                      <a:lnTo>
                        <a:pt x="53" y="178"/>
                      </a:lnTo>
                      <a:lnTo>
                        <a:pt x="106" y="133"/>
                      </a:lnTo>
                      <a:lnTo>
                        <a:pt x="15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248680" y="514800"/>
                  <a:ext cx="229680" cy="235440"/>
                </a:xfrm>
                <a:custGeom>
                  <a:avLst/>
                  <a:gdLst/>
                  <a:ahLst/>
                  <a:rect l="l" t="t" r="r" b="b"/>
                  <a:pathLst>
                    <a:path w="483" h="495">
                      <a:moveTo>
                        <a:pt x="209" y="436"/>
                      </a:moveTo>
                      <a:lnTo>
                        <a:pt x="256" y="428"/>
                      </a:lnTo>
                      <a:lnTo>
                        <a:pt x="322" y="411"/>
                      </a:lnTo>
                      <a:lnTo>
                        <a:pt x="344" y="403"/>
                      </a:lnTo>
                      <a:lnTo>
                        <a:pt x="382" y="372"/>
                      </a:lnTo>
                      <a:lnTo>
                        <a:pt x="415" y="325"/>
                      </a:lnTo>
                      <a:lnTo>
                        <a:pt x="425" y="299"/>
                      </a:lnTo>
                      <a:lnTo>
                        <a:pt x="425" y="268"/>
                      </a:lnTo>
                      <a:lnTo>
                        <a:pt x="369" y="234"/>
                      </a:lnTo>
                      <a:lnTo>
                        <a:pt x="274" y="190"/>
                      </a:lnTo>
                      <a:lnTo>
                        <a:pt x="214" y="183"/>
                      </a:lnTo>
                      <a:lnTo>
                        <a:pt x="173" y="189"/>
                      </a:lnTo>
                      <a:lnTo>
                        <a:pt x="142" y="203"/>
                      </a:lnTo>
                      <a:lnTo>
                        <a:pt x="121" y="210"/>
                      </a:lnTo>
                      <a:lnTo>
                        <a:pt x="101" y="196"/>
                      </a:lnTo>
                      <a:lnTo>
                        <a:pt x="94" y="177"/>
                      </a:lnTo>
                      <a:lnTo>
                        <a:pt x="126" y="154"/>
                      </a:lnTo>
                      <a:lnTo>
                        <a:pt x="155" y="151"/>
                      </a:lnTo>
                      <a:lnTo>
                        <a:pt x="180" y="145"/>
                      </a:lnTo>
                      <a:lnTo>
                        <a:pt x="187" y="133"/>
                      </a:lnTo>
                      <a:lnTo>
                        <a:pt x="180" y="93"/>
                      </a:lnTo>
                      <a:lnTo>
                        <a:pt x="148" y="66"/>
                      </a:lnTo>
                      <a:lnTo>
                        <a:pt x="114" y="54"/>
                      </a:lnTo>
                      <a:lnTo>
                        <a:pt x="74" y="55"/>
                      </a:lnTo>
                      <a:lnTo>
                        <a:pt x="53" y="66"/>
                      </a:lnTo>
                      <a:lnTo>
                        <a:pt x="45" y="87"/>
                      </a:lnTo>
                      <a:lnTo>
                        <a:pt x="47" y="109"/>
                      </a:lnTo>
                      <a:lnTo>
                        <a:pt x="58" y="123"/>
                      </a:lnTo>
                      <a:lnTo>
                        <a:pt x="47" y="135"/>
                      </a:lnTo>
                      <a:lnTo>
                        <a:pt x="24" y="139"/>
                      </a:lnTo>
                      <a:lnTo>
                        <a:pt x="5" y="121"/>
                      </a:lnTo>
                      <a:lnTo>
                        <a:pt x="0" y="93"/>
                      </a:lnTo>
                      <a:lnTo>
                        <a:pt x="11" y="54"/>
                      </a:lnTo>
                      <a:lnTo>
                        <a:pt x="34" y="37"/>
                      </a:lnTo>
                      <a:lnTo>
                        <a:pt x="53" y="16"/>
                      </a:lnTo>
                      <a:lnTo>
                        <a:pt x="92" y="7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69" y="24"/>
                      </a:lnTo>
                      <a:lnTo>
                        <a:pt x="193" y="49"/>
                      </a:lnTo>
                      <a:lnTo>
                        <a:pt x="234" y="96"/>
                      </a:lnTo>
                      <a:lnTo>
                        <a:pt x="269" y="141"/>
                      </a:lnTo>
                      <a:lnTo>
                        <a:pt x="324" y="172"/>
                      </a:lnTo>
                      <a:lnTo>
                        <a:pt x="378" y="196"/>
                      </a:lnTo>
                      <a:lnTo>
                        <a:pt x="438" y="225"/>
                      </a:lnTo>
                      <a:lnTo>
                        <a:pt x="472" y="237"/>
                      </a:lnTo>
                      <a:lnTo>
                        <a:pt x="483" y="252"/>
                      </a:lnTo>
                      <a:lnTo>
                        <a:pt x="478" y="306"/>
                      </a:lnTo>
                      <a:lnTo>
                        <a:pt x="463" y="354"/>
                      </a:lnTo>
                      <a:lnTo>
                        <a:pt x="436" y="391"/>
                      </a:lnTo>
                      <a:lnTo>
                        <a:pt x="391" y="436"/>
                      </a:lnTo>
                      <a:lnTo>
                        <a:pt x="328" y="471"/>
                      </a:lnTo>
                      <a:lnTo>
                        <a:pt x="243" y="495"/>
                      </a:lnTo>
                      <a:lnTo>
                        <a:pt x="203" y="492"/>
                      </a:lnTo>
                      <a:lnTo>
                        <a:pt x="173" y="471"/>
                      </a:lnTo>
                      <a:lnTo>
                        <a:pt x="169" y="447"/>
                      </a:lnTo>
                      <a:lnTo>
                        <a:pt x="209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228880" y="936000"/>
                  <a:ext cx="131040" cy="308160"/>
                </a:xfrm>
                <a:custGeom>
                  <a:avLst/>
                  <a:gdLst/>
                  <a:ahLst/>
                  <a:rect l="l" t="t" r="r" b="b"/>
                  <a:pathLst>
                    <a:path w="274" h="647">
                      <a:moveTo>
                        <a:pt x="7" y="60"/>
                      </a:moveTo>
                      <a:lnTo>
                        <a:pt x="0" y="32"/>
                      </a:lnTo>
                      <a:lnTo>
                        <a:pt x="28" y="0"/>
                      </a:lnTo>
                      <a:lnTo>
                        <a:pt x="64" y="3"/>
                      </a:lnTo>
                      <a:lnTo>
                        <a:pt x="90" y="15"/>
                      </a:lnTo>
                      <a:lnTo>
                        <a:pt x="120" y="55"/>
                      </a:lnTo>
                      <a:lnTo>
                        <a:pt x="142" y="135"/>
                      </a:lnTo>
                      <a:lnTo>
                        <a:pt x="172" y="207"/>
                      </a:lnTo>
                      <a:lnTo>
                        <a:pt x="199" y="274"/>
                      </a:lnTo>
                      <a:lnTo>
                        <a:pt x="199" y="310"/>
                      </a:lnTo>
                      <a:lnTo>
                        <a:pt x="199" y="339"/>
                      </a:lnTo>
                      <a:lnTo>
                        <a:pt x="185" y="376"/>
                      </a:lnTo>
                      <a:lnTo>
                        <a:pt x="147" y="450"/>
                      </a:lnTo>
                      <a:lnTo>
                        <a:pt x="125" y="514"/>
                      </a:lnTo>
                      <a:lnTo>
                        <a:pt x="118" y="539"/>
                      </a:lnTo>
                      <a:lnTo>
                        <a:pt x="135" y="558"/>
                      </a:lnTo>
                      <a:lnTo>
                        <a:pt x="185" y="573"/>
                      </a:lnTo>
                      <a:lnTo>
                        <a:pt x="246" y="587"/>
                      </a:lnTo>
                      <a:lnTo>
                        <a:pt x="274" y="603"/>
                      </a:lnTo>
                      <a:lnTo>
                        <a:pt x="246" y="627"/>
                      </a:lnTo>
                      <a:lnTo>
                        <a:pt x="192" y="647"/>
                      </a:lnTo>
                      <a:lnTo>
                        <a:pt x="165" y="640"/>
                      </a:lnTo>
                      <a:lnTo>
                        <a:pt x="142" y="610"/>
                      </a:lnTo>
                      <a:lnTo>
                        <a:pt x="104" y="587"/>
                      </a:lnTo>
                      <a:lnTo>
                        <a:pt x="73" y="587"/>
                      </a:lnTo>
                      <a:lnTo>
                        <a:pt x="52" y="583"/>
                      </a:lnTo>
                      <a:lnTo>
                        <a:pt x="42" y="558"/>
                      </a:lnTo>
                      <a:lnTo>
                        <a:pt x="57" y="531"/>
                      </a:lnTo>
                      <a:lnTo>
                        <a:pt x="82" y="495"/>
                      </a:lnTo>
                      <a:lnTo>
                        <a:pt x="104" y="465"/>
                      </a:lnTo>
                      <a:lnTo>
                        <a:pt x="132" y="392"/>
                      </a:lnTo>
                      <a:lnTo>
                        <a:pt x="142" y="347"/>
                      </a:lnTo>
                      <a:lnTo>
                        <a:pt x="147" y="310"/>
                      </a:lnTo>
                      <a:lnTo>
                        <a:pt x="140" y="274"/>
                      </a:lnTo>
                      <a:lnTo>
                        <a:pt x="118" y="231"/>
                      </a:lnTo>
                      <a:lnTo>
                        <a:pt x="80" y="192"/>
                      </a:lnTo>
                      <a:lnTo>
                        <a:pt x="42" y="128"/>
                      </a:lnTo>
                      <a:lnTo>
                        <a:pt x="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354160" y="940320"/>
                  <a:ext cx="91080" cy="321120"/>
                </a:xfrm>
                <a:custGeom>
                  <a:avLst/>
                  <a:gdLst/>
                  <a:ahLst/>
                  <a:rect l="l" t="t" r="r" b="b"/>
                  <a:pathLst>
                    <a:path w="193" h="674">
                      <a:moveTo>
                        <a:pt x="76" y="166"/>
                      </a:moveTo>
                      <a:lnTo>
                        <a:pt x="99" y="74"/>
                      </a:lnTo>
                      <a:lnTo>
                        <a:pt x="114" y="14"/>
                      </a:lnTo>
                      <a:lnTo>
                        <a:pt x="139" y="0"/>
                      </a:lnTo>
                      <a:lnTo>
                        <a:pt x="175" y="4"/>
                      </a:lnTo>
                      <a:lnTo>
                        <a:pt x="193" y="41"/>
                      </a:lnTo>
                      <a:lnTo>
                        <a:pt x="177" y="86"/>
                      </a:lnTo>
                      <a:lnTo>
                        <a:pt x="160" y="166"/>
                      </a:lnTo>
                      <a:lnTo>
                        <a:pt x="137" y="257"/>
                      </a:lnTo>
                      <a:lnTo>
                        <a:pt x="130" y="320"/>
                      </a:lnTo>
                      <a:lnTo>
                        <a:pt x="130" y="409"/>
                      </a:lnTo>
                      <a:lnTo>
                        <a:pt x="139" y="483"/>
                      </a:lnTo>
                      <a:lnTo>
                        <a:pt x="147" y="554"/>
                      </a:lnTo>
                      <a:lnTo>
                        <a:pt x="155" y="576"/>
                      </a:lnTo>
                      <a:lnTo>
                        <a:pt x="144" y="590"/>
                      </a:lnTo>
                      <a:lnTo>
                        <a:pt x="114" y="605"/>
                      </a:lnTo>
                      <a:lnTo>
                        <a:pt x="86" y="638"/>
                      </a:lnTo>
                      <a:lnTo>
                        <a:pt x="71" y="672"/>
                      </a:lnTo>
                      <a:lnTo>
                        <a:pt x="46" y="674"/>
                      </a:lnTo>
                      <a:lnTo>
                        <a:pt x="0" y="652"/>
                      </a:lnTo>
                      <a:lnTo>
                        <a:pt x="7" y="630"/>
                      </a:lnTo>
                      <a:lnTo>
                        <a:pt x="33" y="613"/>
                      </a:lnTo>
                      <a:lnTo>
                        <a:pt x="79" y="576"/>
                      </a:lnTo>
                      <a:lnTo>
                        <a:pt x="102" y="556"/>
                      </a:lnTo>
                      <a:lnTo>
                        <a:pt x="114" y="532"/>
                      </a:lnTo>
                      <a:lnTo>
                        <a:pt x="114" y="483"/>
                      </a:lnTo>
                      <a:lnTo>
                        <a:pt x="99" y="407"/>
                      </a:lnTo>
                      <a:lnTo>
                        <a:pt x="84" y="339"/>
                      </a:lnTo>
                      <a:lnTo>
                        <a:pt x="76" y="277"/>
                      </a:lnTo>
                      <a:lnTo>
                        <a:pt x="71" y="228"/>
                      </a:lnTo>
                      <a:lnTo>
                        <a:pt x="7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"/>
          <p:cNvSpPr/>
          <p:nvPr/>
        </p:nvSpPr>
        <p:spPr>
          <a:xfrm>
            <a:off x="4724280" y="20574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ich (one / ones)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 much / man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289-0A84-4975-96A2-9FBFA9BB2498}" type="slidenum">
              <a:t>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 tu mochila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your backpack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tus libros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s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r book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0" name="pe01482_" descr=""/>
          <p:cNvPicPr/>
          <p:nvPr/>
        </p:nvPicPr>
        <p:blipFill>
          <a:blip r:embed="rId1"/>
          <a:stretch/>
        </p:blipFill>
        <p:spPr>
          <a:xfrm>
            <a:off x="6807240" y="152280"/>
            <a:ext cx="2184480" cy="201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73240" y="5961240"/>
            <a:ext cx="68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Cuál / Cuál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e used to choose from among a grou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C3A-08CC-4420-9CEE-7B226AF08000}" type="slidenum">
              <a:t>5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j0079054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622600" cy="20829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2362320"/>
            <a:ext cx="5943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de Argentina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from Argenti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ellos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the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62480" y="5961240"/>
            <a:ext cx="58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Quién / Quién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 singular  / plural ans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661-F6C7-4C12-8337-8E51E23305AA}" type="slidenum">
              <a:t>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320" y="2743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a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area hay en la clase de español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uch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homework is there in Spanish class?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o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ntes hay en la clase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an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students are in the clas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8" name="pe01640_" descr=""/>
          <p:cNvPicPr/>
          <p:nvPr/>
        </p:nvPicPr>
        <p:blipFill>
          <a:blip r:embed="rId1"/>
          <a:stretch/>
        </p:blipFill>
        <p:spPr>
          <a:xfrm>
            <a:off x="5710320" y="76320"/>
            <a:ext cx="335736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FD3-DC3D-4C4B-8829-EB41C1796687}" type="slidenum">
              <a:t>7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 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s hoy?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 studying today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tudio 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qu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engo un exame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I am studying </a:t>
            </a: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becaus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 have a test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1" name="bd07173_" descr=""/>
          <p:cNvPicPr/>
          <p:nvPr/>
        </p:nvPicPr>
        <p:blipFill>
          <a:blip r:embed="rId1"/>
          <a:stretch/>
        </p:blipFill>
        <p:spPr>
          <a:xfrm>
            <a:off x="73080" y="120600"/>
            <a:ext cx="24415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4F4-D67B-46BC-B187-BA9AFE692C05}" type="slidenum">
              <a:t>8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182880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do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l concierto de rock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n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e rock concert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st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at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i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án mis libr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r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my book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4" name="BS02064_" descr=""/>
          <p:cNvPicPr/>
          <p:nvPr/>
        </p:nvPicPr>
        <p:blipFill>
          <a:blip r:embed="rId1"/>
          <a:stretch/>
        </p:blipFill>
        <p:spPr>
          <a:xfrm>
            <a:off x="6988320" y="152280"/>
            <a:ext cx="2003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FC7-1DE4-429B-B41C-2F98F91F2B86}" type="slidenum">
              <a:t>9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6:36:04Z</dcterms:created>
  <dc:creator>olseng</dc:creator>
  <dc:description/>
  <dc:language>en-US</dc:language>
  <cp:lastModifiedBy>Saint John's Hgh School</cp:lastModifiedBy>
  <dcterms:modified xsi:type="dcterms:W3CDTF">2001-11-16T19:26:32Z</dcterms:modified>
  <cp:revision>87</cp:revision>
  <dc:subject/>
  <dc:title>Adjective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byui.edu/Ricks/Academics/Academics.html</vt:lpwstr>
  </property>
  <property fmtid="{D5CDD505-2E9C-101B-9397-08002B2CF9AE}" pid="9" name="IsMyDocuments">
    <vt:lpwstr>1</vt:lpwstr>
  </property>
  <property fmtid="{D5CDD505-2E9C-101B-9397-08002B2CF9AE}" pid="10" name="LinkColor">
    <vt:r8>16711782</vt:r8>
  </property>
  <property fmtid="{D5CDD505-2E9C-101B-9397-08002B2CF9AE}" pid="11" name="MailAddress">
    <vt:lpwstr/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G:\PPPresentations</vt:lpwstr>
  </property>
  <property fmtid="{D5CDD505-2E9C-101B-9397-08002B2CF9AE}" pid="15" name="ScreenSize">
    <vt:r8>1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